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24638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624000" cy="97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5280" cy="340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xposé réalisé à partir des éléments des différents groupes de travail IBR FNGDS/SNGTV 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emerciements particuliers à Anne Touratier Dr Vétérinaire de la FNGDS et Dominique Repiquet Dr Vétérinaire Secrétaire Permanent de l’ACERSA qui m’ont autorisé à reprendre quelques unes de leurs diapositives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emerciements aux Drs Bruno Courtay et Pierre Duclos pour leur participation à ce travail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Bibliographie : Numéro Spécial IBR Bulletin des GTV (novembre 1997 n° 4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idier Guérin : groupe de travail IBR SNGTV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80920" y="4629240"/>
            <a:ext cx="4857840" cy="3835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BR : prophylaxie volontaire, suivant les départements : décision collective ou individuelle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80920" y="4629240"/>
            <a:ext cx="485784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80920" y="4629240"/>
            <a:ext cx="4857840" cy="3835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ace à l’absence de dispositions réglementaires spécifiques pour cette maladie non légalement réputée contagieuse, l’ensemble des partenaires impliqués dans ce diagnostic se sont entendus sur la mise en place d ’un contrôle volontaire des réactifs sérologiques IBR. Cette démarche a abouti à la signature début 1997 d ’une convention définissant les critères qualitatifs de ces réactifs ainsi que les modalités de leur vérification, tout particulièrement le contrôle lot par lot des réactifs par le CNEVA de Lyon 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880920" y="4629240"/>
            <a:ext cx="4857840" cy="3835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oir en détail les rôles du GTV et des vétérinaires en fin de réunion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80920" y="4629240"/>
            <a:ext cx="4857840" cy="3835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 partir de novembre 1998, ne pourront figurer sur les ASDA comme mentions additives que les appellations gérées par l ’ACERSA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e Secrétaire Permanent est mis à la disposition de l ’association par la DGAl 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xposé réalisé à partir des éléments des différents groupes de travail IBR FNGDS/SNGTV 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emerciements particuliers à Anne Touratier Dr Vétérinaire de la FNGDS et Dominique Repiquet Dr Vétérinaire Secrétaire Permanent de l’ACERSA qui m’ont autorisé à reprendre quelques unes de leurs diapositives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emerciements aux Drs Bruno Courtay et Pierre Duclos pour leur participation à ce travail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Bibliographie : Numéro Spécial IBR Bulletin des GTV (novembre 1997 n° 4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idier Guérin : groupe de travail IBR SNGTV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ur l ’IBR, le travail a commencé au niveau de la rédaction du cahier des charges par le groupe d ’experts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ur les maladies à venir qui peuvent intéresser différentes espèces ( BVD pour les bovins, Visna-Maedi pour les ovins, SDRP pour les porcins … ), le raisonnement commencera beaucoup plus en amont avec l ’étude, lors de demande au Conseil d ’Administration, de l ’opportunité de mettre en place des appellations pour telle ou telle maladie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e pas confondre qualité et caractéristiques qualita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a qualité n’est pas l ’excellen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a qualité n’est pas une spéculation intellectuel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a qualité est un outil parfaitement opérationnel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14440" y="4628880"/>
            <a:ext cx="5667120" cy="3833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QUALITE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ATI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 Antiqua"/>
              </a:rPr>
              <a:t>FAI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AITRISE DE LA QUALITE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OUT CE QUI CONTRIBUE Techniques et activités à caractère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  FABRIQUER L’OBJET DE opérationnel utilisées en vue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QUALITE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 répondre aux exigences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elatives à la qualité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AVOI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 Antiqua"/>
              </a:rPr>
              <a:t>FAI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SSURANCE DE LA QUALITE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OUT CE QUI DONNE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ONFIANCE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nsemble des actions préétablies et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N LA CAPACITE DE   systématiques nécessaires pour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’ENTREPRIS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nner la confiance appropriée en ce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qu ’un produit satisfera aux exigen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elatives à la qualité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 Antiqua"/>
              </a:rPr>
              <a:t>FAIRE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SAVOI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5080320" cy="2361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’ASSURANCE DE LA QUALITE 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OBJECTIF                      =  compenser les manquements de contrôle fina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RINCIPES                    =  agir en amont pour être sur du résultat, définir, 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ormaliser, prévenir, anticiper et … appliquer 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rocédures de travail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CERSA : Association pour la Certification de la Santé Animale en éleva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753000" y="7920"/>
            <a:ext cx="28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926640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7920"/>
            <a:ext cx="28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80920" y="4628880"/>
            <a:ext cx="4857840" cy="38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80560" y="4628880"/>
            <a:ext cx="4859640" cy="3833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G : assemblée généra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A : conseil d ’administr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044720" y="853920"/>
            <a:ext cx="4533840" cy="3402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80560" y="4628880"/>
            <a:ext cx="4859640" cy="3833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NGDS : Fédération Nationale des Groupements de Défense Sanitai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FCB : Fédération Française des Commerçants en Bestiau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NCBV : Fédération Nationale de la Coopération Bétail et Viand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LG : Union Nationale des UPRA et des livres Généalogiqu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ILVA : Association des Directeurs de Laboratoires Vétérinaires d ’Analys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NIEL : Centre National Interprofessionnel de l ’Economie Laitière et des       Produits Laiti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TERBEV : Association Nationale Interprofessionnelle du Bétail et des Viand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NE : Confédération Nationale de l ’Eleva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GAl :Direction Générale de l ’Aliment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es offices OFIVAL et ONILAIT, ainsi que la DGAl  participent aux assemblées générales 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4640" cy="6188040"/>
            <a:chOff x="0" y="385920"/>
            <a:chExt cx="9134640" cy="618804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6960" cy="457200"/>
              <a:chOff x="0" y="385920"/>
              <a:chExt cx="966960" cy="4572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6560" cy="316080"/>
              <a:chOff x="838080" y="6257880"/>
              <a:chExt cx="8296560" cy="31608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799400" y="6172200"/>
            <a:ext cx="1268280" cy="4986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-170640" y="6157800"/>
            <a:ext cx="145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E5F7-F007-42B2-B82F-549CF50609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114ffb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114ff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fc0128"/>
              </a:buClr>
              <a:buFont typeface="Book Antiqu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309600"/>
            <a:ext cx="9134640" cy="6188040"/>
            <a:chOff x="0" y="309600"/>
            <a:chExt cx="9134640" cy="6188040"/>
          </a:xfrm>
        </p:grpSpPr>
        <p:grpSp>
          <p:nvGrpSpPr>
            <p:cNvPr id="55" name=""/>
            <p:cNvGrpSpPr/>
            <p:nvPr/>
          </p:nvGrpSpPr>
          <p:grpSpPr>
            <a:xfrm>
              <a:off x="0" y="309600"/>
              <a:ext cx="966960" cy="457200"/>
              <a:chOff x="0" y="309600"/>
              <a:chExt cx="966960" cy="45720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0960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97000" y="30960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4960" y="30960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25400" y="30960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5720" y="30960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38080" y="6181560"/>
              <a:ext cx="8296560" cy="316080"/>
              <a:chOff x="838080" y="6181560"/>
              <a:chExt cx="8296560" cy="316080"/>
            </a:xfrm>
          </p:grpSpPr>
          <p:sp>
            <p:nvSpPr>
              <p:cNvPr id="62" name=""/>
              <p:cNvSpPr/>
              <p:nvPr/>
            </p:nvSpPr>
            <p:spPr>
              <a:xfrm>
                <a:off x="838080" y="641988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65080" y="630072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92080" y="618156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c0128"/>
                </a:solidFill>
                <a:latin typeface="Book Antiqua"/>
              </a:rPr>
              <a:t>ACERSA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400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c0128"/>
                </a:solidFill>
                <a:latin typeface="Book Antiqua"/>
              </a:rPr>
              <a:t>APPELLATIONS  IB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2081160" cy="208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657600" y="4038480"/>
          <a:ext cx="2046240" cy="19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4038480"/>
                    <a:ext cx="20462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799400" y="6095880"/>
            <a:ext cx="1268280" cy="49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5200" y="1701720"/>
            <a:ext cx="8531280" cy="39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pprob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dalités de fonction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ystème qualit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hiers des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abilit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es schémas département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aluation 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ours en cas d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ysfonction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1920" y="152280"/>
            <a:ext cx="3764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Times New Roman"/>
              </a:rPr>
              <a:t>CERT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19320" y="1143000"/>
            <a:ext cx="7569000" cy="16257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01880" y="154080"/>
            <a:ext cx="8140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ASSOCIATION DE CERTIFICATION DE LA SANTE ANIMALE EN ELE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1600200"/>
            <a:ext cx="3022560" cy="1041480"/>
          </a:xfrm>
          <a:prstGeom prst="rect">
            <a:avLst/>
          </a:prstGeom>
          <a:noFill/>
          <a:ln w="2556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1144440"/>
            <a:ext cx="1341360" cy="3938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ffa3"/>
                </a:solidFill>
                <a:latin typeface="Times New Roman"/>
              </a:rPr>
              <a:t>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1600200"/>
            <a:ext cx="3861000" cy="104148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1144440"/>
            <a:ext cx="2261880" cy="393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ffa3"/>
                </a:solidFill>
                <a:latin typeface="Times New Roman"/>
              </a:rPr>
              <a:t>CER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52480" y="1585800"/>
            <a:ext cx="638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34120" y="1585800"/>
            <a:ext cx="622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75080" y="4556160"/>
            <a:ext cx="81144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21040" y="3530520"/>
            <a:ext cx="5511600" cy="1473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32160" y="3110040"/>
            <a:ext cx="449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e en oeuvre de la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30560" y="3664080"/>
            <a:ext cx="1130400" cy="1130040"/>
            <a:chOff x="3130560" y="3664080"/>
            <a:chExt cx="1130400" cy="1130040"/>
          </a:xfrm>
        </p:grpSpPr>
        <p:sp>
          <p:nvSpPr>
            <p:cNvPr id="181" name=""/>
            <p:cNvSpPr/>
            <p:nvPr/>
          </p:nvSpPr>
          <p:spPr>
            <a:xfrm>
              <a:off x="3130560" y="3664080"/>
              <a:ext cx="1130400" cy="113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85360" y="3965400"/>
              <a:ext cx="85968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b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64480" y="3664080"/>
            <a:ext cx="1282680" cy="1130040"/>
            <a:chOff x="6864480" y="3664080"/>
            <a:chExt cx="1282680" cy="1130040"/>
          </a:xfrm>
        </p:grpSpPr>
        <p:sp>
          <p:nvSpPr>
            <p:cNvPr id="184" name=""/>
            <p:cNvSpPr/>
            <p:nvPr/>
          </p:nvSpPr>
          <p:spPr>
            <a:xfrm>
              <a:off x="6864480" y="3664080"/>
              <a:ext cx="1282680" cy="113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72280" y="4041720"/>
              <a:ext cx="84132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T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883040" y="3664080"/>
            <a:ext cx="1359000" cy="1206360"/>
            <a:chOff x="4883040" y="3664080"/>
            <a:chExt cx="1359000" cy="1206360"/>
          </a:xfrm>
        </p:grpSpPr>
        <p:sp>
          <p:nvSpPr>
            <p:cNvPr id="187" name=""/>
            <p:cNvSpPr/>
            <p:nvPr/>
          </p:nvSpPr>
          <p:spPr>
            <a:xfrm>
              <a:off x="4883040" y="3664080"/>
              <a:ext cx="135900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95880" y="3965400"/>
              <a:ext cx="80784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309920" y="4267080"/>
            <a:ext cx="528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91360" y="426708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rot="16200000">
            <a:off x="5034240" y="4959000"/>
            <a:ext cx="596880" cy="444600"/>
          </a:xfrm>
          <a:prstGeom prst="rightArrow">
            <a:avLst>
              <a:gd name="adj1" fmla="val 50000"/>
              <a:gd name="adj2" fmla="val 67169"/>
            </a:avLst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rot="16200000">
            <a:off x="5295600" y="2705040"/>
            <a:ext cx="520920" cy="444240"/>
          </a:xfrm>
          <a:prstGeom prst="rightArrow">
            <a:avLst>
              <a:gd name="adj1" fmla="val 50000"/>
              <a:gd name="adj2" fmla="val 58668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32840" y="5624640"/>
            <a:ext cx="1198080" cy="45468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v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46360" y="562464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étéri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138720" y="5867280"/>
            <a:ext cx="833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39640" y="3664080"/>
            <a:ext cx="1282680" cy="1130040"/>
            <a:chOff x="539640" y="3664080"/>
            <a:chExt cx="1282680" cy="1130040"/>
          </a:xfrm>
        </p:grpSpPr>
        <p:sp>
          <p:nvSpPr>
            <p:cNvPr id="197" name=""/>
            <p:cNvSpPr/>
            <p:nvPr/>
          </p:nvSpPr>
          <p:spPr>
            <a:xfrm>
              <a:off x="539640" y="3664080"/>
              <a:ext cx="1282680" cy="113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c0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4760" y="403236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</a:rPr>
                <a:t>DS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rot="16200000">
            <a:off x="6057720" y="2704680"/>
            <a:ext cx="520920" cy="444600"/>
          </a:xfrm>
          <a:prstGeom prst="rightArrow">
            <a:avLst>
              <a:gd name="adj1" fmla="val 50000"/>
              <a:gd name="adj2" fmla="val 5859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11240" y="4044960"/>
            <a:ext cx="901800" cy="368280"/>
          </a:xfrm>
          <a:prstGeom prst="rightArrow">
            <a:avLst>
              <a:gd name="adj1" fmla="val 50000"/>
              <a:gd name="adj2" fmla="val 122513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06440" y="3378240"/>
            <a:ext cx="8483400" cy="2616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3440" y="3606840"/>
            <a:ext cx="2463840" cy="2158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48840" y="3597120"/>
            <a:ext cx="911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47000" y="3978360"/>
            <a:ext cx="22723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or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it le syst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élivre 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ppel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3606840"/>
            <a:ext cx="1777680" cy="2158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1920" y="3656160"/>
            <a:ext cx="111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1400" y="4175280"/>
            <a:ext cx="1917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éali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s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78640" y="3683160"/>
            <a:ext cx="2082600" cy="208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72920" y="3825720"/>
            <a:ext cx="949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59360" y="4435560"/>
            <a:ext cx="1929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 vé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scrit vé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5600" y="4648320"/>
            <a:ext cx="757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72320" y="4648320"/>
            <a:ext cx="757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17680" y="345960"/>
            <a:ext cx="7299360" cy="10638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114ffb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chém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114ffb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erritorial d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114ffb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ertific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coordonné par le G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080" y="1682640"/>
            <a:ext cx="570204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5880" y="1676520"/>
            <a:ext cx="5275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Times New Roman"/>
              </a:rPr>
              <a:t>Expert SV ou auditeur QUALIC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Times New Roman"/>
              </a:rPr>
              <a:t>et DSV co-au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6880" y="2136600"/>
            <a:ext cx="220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rô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0280" y="2836800"/>
            <a:ext cx="5302080" cy="51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Mise en oeuvre de la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2749320" y="1395000"/>
            <a:ext cx="1695960" cy="393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0077"/>
                </a:moveTo>
                <a:arcTo wR="10800" hR="10800" stAng="-10569726" swAng="5587936"/>
                <a:lnTo>
                  <a:pt x="10800" y="10800"/>
                </a:lnTo>
                <a:close/>
              </a:path>
              <a:path fill="none" w="21600" h="21600">
                <a:moveTo>
                  <a:pt x="24" y="10077"/>
                </a:moveTo>
                <a:arcTo wR="10800" hR="10800" stAng="-10569726" swAng="5587936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20080" y="1692360"/>
            <a:ext cx="282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système qua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73160" y="230040"/>
            <a:ext cx="8071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Times New Roman"/>
              </a:rPr>
              <a:t>ORGANISATION DEPARTEMENT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48880" y="763560"/>
            <a:ext cx="5692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Mise en œuvre de la cer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96840" y="1682640"/>
            <a:ext cx="1130400" cy="1130400"/>
            <a:chOff x="996840" y="1682640"/>
            <a:chExt cx="1130400" cy="1130400"/>
          </a:xfrm>
        </p:grpSpPr>
        <p:sp>
          <p:nvSpPr>
            <p:cNvPr id="223" name=""/>
            <p:cNvSpPr/>
            <p:nvPr/>
          </p:nvSpPr>
          <p:spPr>
            <a:xfrm>
              <a:off x="996840" y="1682640"/>
              <a:ext cx="1130400" cy="113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77200" y="2009880"/>
              <a:ext cx="85968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b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788160" y="1606680"/>
            <a:ext cx="1282680" cy="1130040"/>
            <a:chOff x="6788160" y="1606680"/>
            <a:chExt cx="1282680" cy="1130040"/>
          </a:xfrm>
        </p:grpSpPr>
        <p:sp>
          <p:nvSpPr>
            <p:cNvPr id="226" name=""/>
            <p:cNvSpPr/>
            <p:nvPr/>
          </p:nvSpPr>
          <p:spPr>
            <a:xfrm>
              <a:off x="6788160" y="1606680"/>
              <a:ext cx="1282680" cy="113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21520" y="2009880"/>
              <a:ext cx="84132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T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435480" y="1606680"/>
            <a:ext cx="1358640" cy="1206360"/>
            <a:chOff x="3435480" y="1606680"/>
            <a:chExt cx="1358640" cy="1206360"/>
          </a:xfrm>
        </p:grpSpPr>
        <p:sp>
          <p:nvSpPr>
            <p:cNvPr id="229" name=""/>
            <p:cNvSpPr/>
            <p:nvPr/>
          </p:nvSpPr>
          <p:spPr>
            <a:xfrm>
              <a:off x="3435480" y="1606680"/>
              <a:ext cx="1358640" cy="12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73520" y="1933560"/>
              <a:ext cx="80784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17360" y="1290600"/>
          <a:ext cx="118584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290600"/>
                    <a:ext cx="11858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554360" y="2089080"/>
          <a:ext cx="1285920" cy="13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4360" y="2089080"/>
                    <a:ext cx="128592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8005680" y="2212920"/>
          <a:ext cx="9511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5680" y="2212920"/>
                    <a:ext cx="951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87360" y="3968640"/>
            <a:ext cx="8445600" cy="189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720" y="3673440"/>
            <a:ext cx="1365480" cy="51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963880" y="3565440"/>
          <a:ext cx="820800" cy="13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63880" y="3565440"/>
                    <a:ext cx="8208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2462040" y="1981080"/>
            <a:ext cx="801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76640" y="1981080"/>
            <a:ext cx="1716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03520" y="4786200"/>
            <a:ext cx="113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v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93000" y="4786200"/>
            <a:ext cx="155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étéri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8760" y="5029200"/>
            <a:ext cx="1106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087640" y="3444840"/>
          <a:ext cx="606240" cy="106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7640" y="3444840"/>
                    <a:ext cx="6062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8" name=""/>
          <p:cNvGrpSpPr/>
          <p:nvPr/>
        </p:nvGrpSpPr>
        <p:grpSpPr>
          <a:xfrm>
            <a:off x="5978520" y="2725560"/>
            <a:ext cx="873000" cy="1065240"/>
            <a:chOff x="5978520" y="2725560"/>
            <a:chExt cx="873000" cy="1065240"/>
          </a:xfrm>
        </p:grpSpPr>
        <p:graphicFrame>
          <p:nvGraphicFramePr>
            <p:cNvPr id="249" name=""/>
            <p:cNvGraphicFramePr/>
            <p:nvPr/>
          </p:nvGraphicFramePr>
          <p:xfrm>
            <a:off x="5978520" y="3014640"/>
            <a:ext cx="873000" cy="776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78520" y="3014640"/>
                      <a:ext cx="87300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1" name=""/>
            <p:cNvSpPr/>
            <p:nvPr/>
          </p:nvSpPr>
          <p:spPr>
            <a:xfrm>
              <a:off x="6042600" y="2725560"/>
              <a:ext cx="627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4760"/>
                  <a:tab algn="l" pos="749160"/>
                  <a:tab algn="l" pos="1123920"/>
                  <a:tab algn="l" pos="1498680"/>
                  <a:tab algn="l" pos="1873080"/>
                  <a:tab algn="l" pos="2247840"/>
                  <a:tab algn="l" pos="2622600"/>
                  <a:tab algn="l" pos="2997360"/>
                  <a:tab algn="l" pos="3371760"/>
                  <a:tab algn="l" pos="3746520"/>
                  <a:tab algn="l" pos="4121280"/>
                  <a:tab algn="l" pos="4495680"/>
                  <a:tab algn="l" pos="4870440"/>
                  <a:tab algn="l" pos="5245200"/>
                  <a:tab algn="l" pos="5619600"/>
                  <a:tab algn="l" pos="5994360"/>
                  <a:tab algn="l" pos="6369120"/>
                  <a:tab algn="l" pos="6743880"/>
                  <a:tab algn="l" pos="7118280"/>
                  <a:tab algn="l" pos="7493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 Antiqua"/>
                </a:rPr>
                <a:t>AS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775040" y="2343240"/>
            <a:ext cx="143496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605" swAng="5407605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605" swAng="540760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224320" y="3865680"/>
            <a:ext cx="10684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295128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1562040" y="2781000"/>
            <a:ext cx="534960" cy="68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2781000"/>
            <a:ext cx="0" cy="83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287496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971800" y="3581280"/>
          <a:ext cx="811080" cy="12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3581280"/>
                    <a:ext cx="81108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37920" y="306360"/>
            <a:ext cx="5210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GESTION DES ELEVE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VOLONT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560" y="2424240"/>
            <a:ext cx="2964240" cy="820440"/>
          </a:xfrm>
          <a:prstGeom prst="rect">
            <a:avLst/>
          </a:prstGeom>
          <a:solidFill>
            <a:srgbClr val="fda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écision coll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3160" y="2424240"/>
            <a:ext cx="2668680" cy="8204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olontar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divid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42840" y="3719520"/>
            <a:ext cx="51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o collective (articles, réunion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5440" y="4557600"/>
            <a:ext cx="243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écision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o individ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0" y="4481640"/>
            <a:ext cx="4884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o/engagement élev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tour G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estion liste éleveurs volont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1473120"/>
            <a:ext cx="0" cy="482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64040" y="2006640"/>
            <a:ext cx="2616120" cy="253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422360" y="2006640"/>
            <a:ext cx="2718000" cy="253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68360" y="382680"/>
            <a:ext cx="6016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DEUX POINTS IMPOR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4280" y="1476360"/>
            <a:ext cx="823572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cceptat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ar l'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éleveu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communication résultats d'analyse labo =&gt;   G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communication des coordonnées à des ti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si résultats favor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9240" y="4143240"/>
            <a:ext cx="7880760" cy="111276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écessité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gnature élev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oye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document de cotisation annuelle, inventai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258840" y="928800"/>
            <a:ext cx="5940720" cy="1598400"/>
            <a:chOff x="258840" y="928800"/>
            <a:chExt cx="5940720" cy="1598400"/>
          </a:xfrm>
        </p:grpSpPr>
        <p:sp>
          <p:nvSpPr>
            <p:cNvPr id="273" name=""/>
            <p:cNvSpPr/>
            <p:nvPr/>
          </p:nvSpPr>
          <p:spPr>
            <a:xfrm>
              <a:off x="1935360" y="930240"/>
              <a:ext cx="4264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tilisation de kits contrôlé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258840" y="928800"/>
            <a:ext cx="1660320" cy="1598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8840" y="928800"/>
                      <a:ext cx="166032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6" name=""/>
          <p:cNvGrpSpPr/>
          <p:nvPr/>
        </p:nvGrpSpPr>
        <p:grpSpPr>
          <a:xfrm>
            <a:off x="368280" y="3368520"/>
            <a:ext cx="6160320" cy="1314720"/>
            <a:chOff x="368280" y="3368520"/>
            <a:chExt cx="6160320" cy="1314720"/>
          </a:xfrm>
        </p:grpSpPr>
        <p:graphicFrame>
          <p:nvGraphicFramePr>
            <p:cNvPr id="277" name=""/>
            <p:cNvGraphicFramePr/>
            <p:nvPr/>
          </p:nvGraphicFramePr>
          <p:xfrm>
            <a:off x="368280" y="3433680"/>
            <a:ext cx="1835280" cy="124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8280" y="3433680"/>
                      <a:ext cx="1835280" cy="12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9" name=""/>
            <p:cNvSpPr/>
            <p:nvPr/>
          </p:nvSpPr>
          <p:spPr>
            <a:xfrm>
              <a:off x="2241360" y="3368520"/>
              <a:ext cx="4287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ise en oeuvre de l'analy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331640" y="306360"/>
            <a:ext cx="4072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RELATIONS LAB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47640" y="1433520"/>
            <a:ext cx="7611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agement la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utilisation exclusive de kits contrôlés CNEVA L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mise en place d'un système de traçabilité kit uti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nature, n° de l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11240" y="2927520"/>
            <a:ext cx="616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tocké au GDS, vu lors audit initial, tenu à dis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4280" y="4710240"/>
            <a:ext cx="6903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agement la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participer Essai InterLabo annuel CNEVA L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communiquer conclusions 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prévenir si résultats défavor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7160" y="3948120"/>
            <a:ext cx="7288920" cy="454680"/>
            <a:chOff x="2027160" y="3948120"/>
            <a:chExt cx="7288920" cy="454680"/>
          </a:xfrm>
        </p:grpSpPr>
        <p:sp>
          <p:nvSpPr>
            <p:cNvPr id="285" name=""/>
            <p:cNvSpPr/>
            <p:nvPr/>
          </p:nvSpPr>
          <p:spPr>
            <a:xfrm>
              <a:off x="2027160" y="4038480"/>
              <a:ext cx="533520" cy="304920"/>
            </a:xfrm>
            <a:prstGeom prst="rightArrow">
              <a:avLst>
                <a:gd name="adj1" fmla="val 50000"/>
                <a:gd name="adj2" fmla="val 87607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0520" y="3948120"/>
              <a:ext cx="686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copie certificats d'accréditation envoyé au G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838080" y="4800600"/>
            <a:ext cx="351000" cy="304920"/>
          </a:xfrm>
          <a:prstGeom prst="rightArrow">
            <a:avLst>
              <a:gd name="adj1" fmla="val 50000"/>
              <a:gd name="adj2" fmla="val 5763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41400" y="4299120"/>
            <a:ext cx="353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tockés au GDS, vu lors au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70720" y="5640480"/>
            <a:ext cx="333216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tocké au GDS, vus lors au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7320" y="4729320"/>
            <a:ext cx="554760" cy="45468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18400" y="154080"/>
            <a:ext cx="5730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RELATIONS VETERIN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PRATICI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114800" y="1600200"/>
          <a:ext cx="122724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600200"/>
                    <a:ext cx="122724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5573880" y="1830240"/>
            <a:ext cx="100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9680" y="1523880"/>
            <a:ext cx="4978440" cy="1320840"/>
          </a:xfrm>
          <a:prstGeom prst="rect">
            <a:avLst/>
          </a:prstGeom>
          <a:noFill/>
          <a:ln w="507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07960" y="2322360"/>
            <a:ext cx="162540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2"/>
                </a:moveTo>
                <a:arcTo wR="10800" hR="10800" stAng="-10753002" swAng="5346288"/>
                <a:lnTo>
                  <a:pt x="10800" y="10800"/>
                </a:lnTo>
                <a:close/>
              </a:path>
              <a:path fill="none" w="21600" h="21600">
                <a:moveTo>
                  <a:pt x="1" y="10652"/>
                </a:moveTo>
                <a:arcTo wR="10800" hR="10800" stAng="-10753002" swAng="5346288"/>
              </a:path>
            </a:pathLst>
          </a:custGeom>
          <a:noFill/>
          <a:ln cap="rnd" w="50760">
            <a:solidFill>
              <a:srgbClr val="f95a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1360" y="2979720"/>
            <a:ext cx="917748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information collective vé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gestion (envoi et signature) d'un engagement /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dividuel de chaque praticien (adhérent ou non GT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engagements stockés au GTV et tenus à disposition audi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gestion de la liste des vétos volontai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envoyée 1 fois par an et à chaque mise à jour au G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2495520" y="1714680"/>
            <a:ext cx="1244520" cy="95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57840" y="306360"/>
            <a:ext cx="529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RELATIONS FICHIER IP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033720" y="2535120"/>
          <a:ext cx="2173320" cy="22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3720" y="2535120"/>
                    <a:ext cx="217332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2" name=""/>
          <p:cNvGrpSpPr/>
          <p:nvPr/>
        </p:nvGrpSpPr>
        <p:grpSpPr>
          <a:xfrm>
            <a:off x="6311880" y="2652840"/>
            <a:ext cx="1314360" cy="1616040"/>
            <a:chOff x="6311880" y="2652840"/>
            <a:chExt cx="1314360" cy="1616040"/>
          </a:xfrm>
        </p:grpSpPr>
        <p:graphicFrame>
          <p:nvGraphicFramePr>
            <p:cNvPr id="303" name=""/>
            <p:cNvGraphicFramePr/>
            <p:nvPr/>
          </p:nvGraphicFramePr>
          <p:xfrm>
            <a:off x="6311880" y="3105000"/>
            <a:ext cx="1314360" cy="116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11880" y="3105000"/>
                      <a:ext cx="1314360" cy="116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6415560" y="2652840"/>
              <a:ext cx="99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AS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572000" y="3505320"/>
            <a:ext cx="1600200" cy="152280"/>
          </a:xfrm>
          <a:prstGeom prst="rightArrow">
            <a:avLst>
              <a:gd name="adj1" fmla="val 50000"/>
              <a:gd name="adj2" fmla="val 526143"/>
            </a:avLst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80" y="2644920"/>
            <a:ext cx="2592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ntrôle des effec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2480" y="4016520"/>
            <a:ext cx="22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ntrôles à l'i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87520" y="2819520"/>
            <a:ext cx="71136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235240" y="3098880"/>
            <a:ext cx="787320" cy="11174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82760" y="1244520"/>
            <a:ext cx="939600" cy="1062720"/>
            <a:chOff x="482760" y="1244520"/>
            <a:chExt cx="939600" cy="1062720"/>
          </a:xfrm>
        </p:grpSpPr>
        <p:sp>
          <p:nvSpPr>
            <p:cNvPr id="312" name=""/>
            <p:cNvSpPr/>
            <p:nvPr/>
          </p:nvSpPr>
          <p:spPr>
            <a:xfrm>
              <a:off x="482760" y="1244520"/>
              <a:ext cx="939600" cy="939960"/>
            </a:xfrm>
            <a:prstGeom prst="triangle">
              <a:avLst>
                <a:gd name="adj" fmla="val 49931"/>
              </a:avLst>
            </a:prstGeom>
            <a:solidFill>
              <a:srgbClr val="ffffff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4480" y="1395360"/>
              <a:ext cx="3780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Book Antiqua"/>
                </a:rPr>
                <a:t>!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207440" y="900000"/>
            <a:ext cx="8035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 DGAl y met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3 condition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pas de retrait d'ASDA pour l'I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si échange (retrait appellation) rap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procédures liées aux ASDA établies avec accord D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00200" y="5423040"/>
            <a:ext cx="9186840" cy="747000"/>
            <a:chOff x="700200" y="5423040"/>
            <a:chExt cx="9186840" cy="747000"/>
          </a:xfrm>
        </p:grpSpPr>
        <p:sp>
          <p:nvSpPr>
            <p:cNvPr id="316" name=""/>
            <p:cNvSpPr/>
            <p:nvPr/>
          </p:nvSpPr>
          <p:spPr>
            <a:xfrm>
              <a:off x="717480" y="5533920"/>
              <a:ext cx="452880" cy="5763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0200" y="5423040"/>
              <a:ext cx="9186840" cy="7470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B1: bovins identifiés de moins de 48 mois  et contrôlés avant la v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B2 : bovins identifiés de moins de 48 mois (au moment du prélèvement annue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258800" y="4619520"/>
            <a:ext cx="4473720" cy="644040"/>
            <a:chOff x="4258800" y="4619520"/>
            <a:chExt cx="4473720" cy="644040"/>
          </a:xfrm>
        </p:grpSpPr>
        <p:sp>
          <p:nvSpPr>
            <p:cNvPr id="319" name=""/>
            <p:cNvSpPr/>
            <p:nvPr/>
          </p:nvSpPr>
          <p:spPr>
            <a:xfrm>
              <a:off x="4335840" y="4626000"/>
              <a:ext cx="4396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57b49"/>
                  </a:solidFill>
                  <a:latin typeface="Book Antiqua"/>
                </a:rPr>
                <a:t>tous les bovins identifié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57b49"/>
                  </a:solidFill>
                  <a:latin typeface="Book Antiqua"/>
                </a:rPr>
                <a:t>(au moment du prélèvement annue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58800" y="4619520"/>
              <a:ext cx="475560" cy="576360"/>
            </a:xfrm>
            <a:prstGeom prst="rect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066680" y="247680"/>
            <a:ext cx="52578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Book Antiqua"/>
              </a:rPr>
              <a:t>ROLE DU SECRETAIRE PERMAN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imation C.A., C.C., C.P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aison entre les membres de l'Associat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iliter la mise en place des S.T.C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ormation des partenaires du S.T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166240" y="1933560"/>
            <a:ext cx="387360" cy="581040"/>
          </a:xfrm>
          <a:custGeom>
            <a:avLst/>
            <a:gdLst/>
            <a:ahLst/>
            <a:rect l="l" t="t" r="r" b="b"/>
            <a:pathLst>
              <a:path w="244" h="366">
                <a:moveTo>
                  <a:pt x="86" y="365"/>
                </a:moveTo>
                <a:lnTo>
                  <a:pt x="243" y="365"/>
                </a:lnTo>
                <a:lnTo>
                  <a:pt x="243" y="270"/>
                </a:lnTo>
                <a:lnTo>
                  <a:pt x="237" y="231"/>
                </a:lnTo>
                <a:lnTo>
                  <a:pt x="237" y="0"/>
                </a:lnTo>
                <a:lnTo>
                  <a:pt x="41" y="0"/>
                </a:lnTo>
                <a:lnTo>
                  <a:pt x="42" y="21"/>
                </a:lnTo>
                <a:lnTo>
                  <a:pt x="23" y="62"/>
                </a:lnTo>
                <a:lnTo>
                  <a:pt x="19" y="73"/>
                </a:lnTo>
                <a:lnTo>
                  <a:pt x="20" y="85"/>
                </a:lnTo>
                <a:lnTo>
                  <a:pt x="28" y="108"/>
                </a:lnTo>
                <a:lnTo>
                  <a:pt x="16" y="122"/>
                </a:lnTo>
                <a:lnTo>
                  <a:pt x="0" y="149"/>
                </a:lnTo>
                <a:lnTo>
                  <a:pt x="7" y="162"/>
                </a:lnTo>
                <a:lnTo>
                  <a:pt x="18" y="166"/>
                </a:lnTo>
                <a:lnTo>
                  <a:pt x="18" y="187"/>
                </a:lnTo>
                <a:lnTo>
                  <a:pt x="16" y="191"/>
                </a:lnTo>
                <a:lnTo>
                  <a:pt x="16" y="198"/>
                </a:lnTo>
                <a:lnTo>
                  <a:pt x="50" y="203"/>
                </a:lnTo>
                <a:lnTo>
                  <a:pt x="51" y="209"/>
                </a:lnTo>
                <a:lnTo>
                  <a:pt x="21" y="218"/>
                </a:lnTo>
                <a:lnTo>
                  <a:pt x="23" y="233"/>
                </a:lnTo>
                <a:lnTo>
                  <a:pt x="16" y="252"/>
                </a:lnTo>
                <a:lnTo>
                  <a:pt x="15" y="255"/>
                </a:lnTo>
                <a:lnTo>
                  <a:pt x="15" y="263"/>
                </a:lnTo>
                <a:lnTo>
                  <a:pt x="18" y="270"/>
                </a:lnTo>
                <a:lnTo>
                  <a:pt x="22" y="275"/>
                </a:lnTo>
                <a:lnTo>
                  <a:pt x="29" y="275"/>
                </a:lnTo>
                <a:lnTo>
                  <a:pt x="70" y="283"/>
                </a:lnTo>
                <a:lnTo>
                  <a:pt x="78" y="304"/>
                </a:lnTo>
                <a:lnTo>
                  <a:pt x="78" y="319"/>
                </a:lnTo>
                <a:lnTo>
                  <a:pt x="86" y="336"/>
                </a:lnTo>
                <a:lnTo>
                  <a:pt x="86" y="365"/>
                </a:lnTo>
              </a:path>
            </a:pathLst>
          </a:custGeom>
          <a:solidFill>
            <a:srgbClr val="ffa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175600" y="1933560"/>
            <a:ext cx="378000" cy="590400"/>
          </a:xfrm>
          <a:custGeom>
            <a:avLst/>
            <a:gdLst/>
            <a:ahLst/>
            <a:rect l="l" t="t" r="r" b="b"/>
            <a:pathLst>
              <a:path w="238" h="372">
                <a:moveTo>
                  <a:pt x="84" y="371"/>
                </a:moveTo>
                <a:lnTo>
                  <a:pt x="237" y="371"/>
                </a:lnTo>
                <a:lnTo>
                  <a:pt x="237" y="274"/>
                </a:lnTo>
                <a:lnTo>
                  <a:pt x="232" y="235"/>
                </a:lnTo>
                <a:lnTo>
                  <a:pt x="232" y="0"/>
                </a:lnTo>
                <a:lnTo>
                  <a:pt x="40" y="0"/>
                </a:lnTo>
                <a:lnTo>
                  <a:pt x="41" y="21"/>
                </a:lnTo>
                <a:lnTo>
                  <a:pt x="23" y="63"/>
                </a:lnTo>
                <a:lnTo>
                  <a:pt x="19" y="74"/>
                </a:lnTo>
                <a:lnTo>
                  <a:pt x="19" y="86"/>
                </a:lnTo>
                <a:lnTo>
                  <a:pt x="27" y="110"/>
                </a:lnTo>
                <a:lnTo>
                  <a:pt x="16" y="124"/>
                </a:lnTo>
                <a:lnTo>
                  <a:pt x="0" y="151"/>
                </a:lnTo>
                <a:lnTo>
                  <a:pt x="7" y="165"/>
                </a:lnTo>
                <a:lnTo>
                  <a:pt x="18" y="169"/>
                </a:lnTo>
                <a:lnTo>
                  <a:pt x="18" y="190"/>
                </a:lnTo>
                <a:lnTo>
                  <a:pt x="16" y="194"/>
                </a:lnTo>
                <a:lnTo>
                  <a:pt x="16" y="201"/>
                </a:lnTo>
                <a:lnTo>
                  <a:pt x="48" y="206"/>
                </a:lnTo>
                <a:lnTo>
                  <a:pt x="50" y="212"/>
                </a:lnTo>
                <a:lnTo>
                  <a:pt x="20" y="222"/>
                </a:lnTo>
                <a:lnTo>
                  <a:pt x="23" y="237"/>
                </a:lnTo>
                <a:lnTo>
                  <a:pt x="16" y="256"/>
                </a:lnTo>
                <a:lnTo>
                  <a:pt x="15" y="259"/>
                </a:lnTo>
                <a:lnTo>
                  <a:pt x="15" y="267"/>
                </a:lnTo>
                <a:lnTo>
                  <a:pt x="17" y="274"/>
                </a:lnTo>
                <a:lnTo>
                  <a:pt x="22" y="280"/>
                </a:lnTo>
                <a:lnTo>
                  <a:pt x="28" y="280"/>
                </a:lnTo>
                <a:lnTo>
                  <a:pt x="69" y="288"/>
                </a:lnTo>
                <a:lnTo>
                  <a:pt x="76" y="309"/>
                </a:lnTo>
                <a:lnTo>
                  <a:pt x="76" y="324"/>
                </a:lnTo>
                <a:lnTo>
                  <a:pt x="84" y="342"/>
                </a:lnTo>
                <a:lnTo>
                  <a:pt x="84" y="371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70760" y="3070080"/>
            <a:ext cx="177840" cy="573120"/>
          </a:xfrm>
          <a:custGeom>
            <a:avLst/>
            <a:gdLst/>
            <a:ahLst/>
            <a:rect l="l" t="t" r="r" b="b"/>
            <a:pathLst>
              <a:path w="112" h="361">
                <a:moveTo>
                  <a:pt x="111" y="15"/>
                </a:moveTo>
                <a:lnTo>
                  <a:pt x="58" y="0"/>
                </a:lnTo>
                <a:lnTo>
                  <a:pt x="0" y="352"/>
                </a:lnTo>
                <a:lnTo>
                  <a:pt x="100" y="360"/>
                </a:lnTo>
                <a:lnTo>
                  <a:pt x="111" y="1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62840" y="3070080"/>
            <a:ext cx="185760" cy="582840"/>
          </a:xfrm>
          <a:custGeom>
            <a:avLst/>
            <a:gdLst/>
            <a:ahLst/>
            <a:rect l="l" t="t" r="r" b="b"/>
            <a:pathLst>
              <a:path w="117" h="367">
                <a:moveTo>
                  <a:pt x="116" y="15"/>
                </a:moveTo>
                <a:lnTo>
                  <a:pt x="60" y="0"/>
                </a:lnTo>
                <a:lnTo>
                  <a:pt x="0" y="358"/>
                </a:lnTo>
                <a:lnTo>
                  <a:pt x="104" y="366"/>
                </a:lnTo>
                <a:lnTo>
                  <a:pt x="116" y="15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467560" y="5815080"/>
            <a:ext cx="274680" cy="196920"/>
          </a:xfrm>
          <a:custGeom>
            <a:avLst/>
            <a:gdLst/>
            <a:ahLst/>
            <a:rect l="l" t="t" r="r" b="b"/>
            <a:pathLst>
              <a:path w="173" h="124">
                <a:moveTo>
                  <a:pt x="50" y="0"/>
                </a:moveTo>
                <a:lnTo>
                  <a:pt x="18" y="61"/>
                </a:lnTo>
                <a:lnTo>
                  <a:pt x="17" y="62"/>
                </a:lnTo>
                <a:lnTo>
                  <a:pt x="5" y="75"/>
                </a:lnTo>
                <a:lnTo>
                  <a:pt x="0" y="93"/>
                </a:lnTo>
                <a:lnTo>
                  <a:pt x="0" y="113"/>
                </a:lnTo>
                <a:lnTo>
                  <a:pt x="23" y="119"/>
                </a:lnTo>
                <a:lnTo>
                  <a:pt x="46" y="122"/>
                </a:lnTo>
                <a:lnTo>
                  <a:pt x="79" y="123"/>
                </a:lnTo>
                <a:lnTo>
                  <a:pt x="112" y="119"/>
                </a:lnTo>
                <a:lnTo>
                  <a:pt x="120" y="117"/>
                </a:lnTo>
                <a:lnTo>
                  <a:pt x="139" y="108"/>
                </a:lnTo>
                <a:lnTo>
                  <a:pt x="172" y="50"/>
                </a:lnTo>
                <a:lnTo>
                  <a:pt x="172" y="20"/>
                </a:lnTo>
                <a:lnTo>
                  <a:pt x="167" y="0"/>
                </a:lnTo>
                <a:lnTo>
                  <a:pt x="50" y="0"/>
                </a:lnTo>
              </a:path>
            </a:pathLst>
          </a:custGeom>
          <a:solidFill>
            <a:srgbClr val="0e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466120" y="5815080"/>
            <a:ext cx="282600" cy="206280"/>
          </a:xfrm>
          <a:custGeom>
            <a:avLst/>
            <a:gdLst/>
            <a:ahLst/>
            <a:rect l="l" t="t" r="r" b="b"/>
            <a:pathLst>
              <a:path w="178" h="130">
                <a:moveTo>
                  <a:pt x="52" y="0"/>
                </a:moveTo>
                <a:lnTo>
                  <a:pt x="18" y="64"/>
                </a:lnTo>
                <a:lnTo>
                  <a:pt x="17" y="65"/>
                </a:lnTo>
                <a:lnTo>
                  <a:pt x="6" y="79"/>
                </a:lnTo>
                <a:lnTo>
                  <a:pt x="0" y="98"/>
                </a:lnTo>
                <a:lnTo>
                  <a:pt x="0" y="118"/>
                </a:lnTo>
                <a:lnTo>
                  <a:pt x="24" y="125"/>
                </a:lnTo>
                <a:lnTo>
                  <a:pt x="47" y="128"/>
                </a:lnTo>
                <a:lnTo>
                  <a:pt x="81" y="129"/>
                </a:lnTo>
                <a:lnTo>
                  <a:pt x="115" y="125"/>
                </a:lnTo>
                <a:lnTo>
                  <a:pt x="123" y="123"/>
                </a:lnTo>
                <a:lnTo>
                  <a:pt x="143" y="113"/>
                </a:lnTo>
                <a:lnTo>
                  <a:pt x="177" y="52"/>
                </a:lnTo>
                <a:lnTo>
                  <a:pt x="177" y="21"/>
                </a:lnTo>
                <a:lnTo>
                  <a:pt x="172" y="0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97760" y="5689440"/>
            <a:ext cx="463680" cy="146160"/>
          </a:xfrm>
          <a:custGeom>
            <a:avLst/>
            <a:gdLst/>
            <a:ahLst/>
            <a:rect l="l" t="t" r="r" b="b"/>
            <a:pathLst>
              <a:path w="292" h="92">
                <a:moveTo>
                  <a:pt x="125" y="0"/>
                </a:moveTo>
                <a:lnTo>
                  <a:pt x="113" y="8"/>
                </a:lnTo>
                <a:lnTo>
                  <a:pt x="92" y="24"/>
                </a:lnTo>
                <a:lnTo>
                  <a:pt x="68" y="33"/>
                </a:lnTo>
                <a:lnTo>
                  <a:pt x="23" y="38"/>
                </a:lnTo>
                <a:lnTo>
                  <a:pt x="14" y="40"/>
                </a:lnTo>
                <a:lnTo>
                  <a:pt x="8" y="48"/>
                </a:lnTo>
                <a:lnTo>
                  <a:pt x="5" y="60"/>
                </a:lnTo>
                <a:lnTo>
                  <a:pt x="4" y="82"/>
                </a:lnTo>
                <a:lnTo>
                  <a:pt x="0" y="81"/>
                </a:lnTo>
                <a:lnTo>
                  <a:pt x="0" y="91"/>
                </a:lnTo>
                <a:lnTo>
                  <a:pt x="132" y="91"/>
                </a:lnTo>
                <a:lnTo>
                  <a:pt x="204" y="77"/>
                </a:lnTo>
                <a:lnTo>
                  <a:pt x="209" y="91"/>
                </a:lnTo>
                <a:lnTo>
                  <a:pt x="247" y="91"/>
                </a:lnTo>
                <a:lnTo>
                  <a:pt x="275" y="88"/>
                </a:lnTo>
                <a:lnTo>
                  <a:pt x="286" y="85"/>
                </a:lnTo>
                <a:lnTo>
                  <a:pt x="286" y="75"/>
                </a:lnTo>
                <a:lnTo>
                  <a:pt x="291" y="48"/>
                </a:lnTo>
                <a:lnTo>
                  <a:pt x="291" y="33"/>
                </a:lnTo>
                <a:lnTo>
                  <a:pt x="288" y="2"/>
                </a:lnTo>
                <a:lnTo>
                  <a:pt x="125" y="0"/>
                </a:lnTo>
              </a:path>
            </a:pathLst>
          </a:custGeom>
          <a:solidFill>
            <a:srgbClr val="0e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96320" y="5689440"/>
            <a:ext cx="471240" cy="155880"/>
          </a:xfrm>
          <a:custGeom>
            <a:avLst/>
            <a:gdLst/>
            <a:ahLst/>
            <a:rect l="l" t="t" r="r" b="b"/>
            <a:pathLst>
              <a:path w="297" h="98">
                <a:moveTo>
                  <a:pt x="127" y="0"/>
                </a:moveTo>
                <a:lnTo>
                  <a:pt x="115" y="8"/>
                </a:lnTo>
                <a:lnTo>
                  <a:pt x="94" y="26"/>
                </a:lnTo>
                <a:lnTo>
                  <a:pt x="69" y="35"/>
                </a:lnTo>
                <a:lnTo>
                  <a:pt x="24" y="41"/>
                </a:lnTo>
                <a:lnTo>
                  <a:pt x="14" y="43"/>
                </a:lnTo>
                <a:lnTo>
                  <a:pt x="8" y="51"/>
                </a:lnTo>
                <a:lnTo>
                  <a:pt x="6" y="64"/>
                </a:lnTo>
                <a:lnTo>
                  <a:pt x="4" y="87"/>
                </a:lnTo>
                <a:lnTo>
                  <a:pt x="0" y="86"/>
                </a:lnTo>
                <a:lnTo>
                  <a:pt x="0" y="97"/>
                </a:lnTo>
                <a:lnTo>
                  <a:pt x="134" y="97"/>
                </a:lnTo>
                <a:lnTo>
                  <a:pt x="207" y="82"/>
                </a:lnTo>
                <a:lnTo>
                  <a:pt x="213" y="97"/>
                </a:lnTo>
                <a:lnTo>
                  <a:pt x="252" y="97"/>
                </a:lnTo>
                <a:lnTo>
                  <a:pt x="280" y="94"/>
                </a:lnTo>
                <a:lnTo>
                  <a:pt x="291" y="91"/>
                </a:lnTo>
                <a:lnTo>
                  <a:pt x="291" y="80"/>
                </a:lnTo>
                <a:lnTo>
                  <a:pt x="296" y="51"/>
                </a:lnTo>
                <a:lnTo>
                  <a:pt x="296" y="35"/>
                </a:lnTo>
                <a:lnTo>
                  <a:pt x="293" y="2"/>
                </a:lnTo>
                <a:lnTo>
                  <a:pt x="127" y="0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50120" y="2367000"/>
            <a:ext cx="343080" cy="782640"/>
          </a:xfrm>
          <a:custGeom>
            <a:avLst/>
            <a:gdLst/>
            <a:ahLst/>
            <a:rect l="l" t="t" r="r" b="b"/>
            <a:pathLst>
              <a:path w="216" h="493">
                <a:moveTo>
                  <a:pt x="38" y="68"/>
                </a:moveTo>
                <a:lnTo>
                  <a:pt x="56" y="91"/>
                </a:lnTo>
                <a:lnTo>
                  <a:pt x="55" y="90"/>
                </a:lnTo>
                <a:lnTo>
                  <a:pt x="103" y="67"/>
                </a:lnTo>
                <a:lnTo>
                  <a:pt x="149" y="37"/>
                </a:lnTo>
                <a:lnTo>
                  <a:pt x="192" y="0"/>
                </a:lnTo>
                <a:lnTo>
                  <a:pt x="215" y="41"/>
                </a:lnTo>
                <a:lnTo>
                  <a:pt x="215" y="492"/>
                </a:lnTo>
                <a:lnTo>
                  <a:pt x="0" y="492"/>
                </a:lnTo>
                <a:lnTo>
                  <a:pt x="0" y="152"/>
                </a:lnTo>
                <a:lnTo>
                  <a:pt x="31" y="75"/>
                </a:lnTo>
                <a:lnTo>
                  <a:pt x="38" y="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0760" y="2367000"/>
            <a:ext cx="352440" cy="792000"/>
          </a:xfrm>
          <a:custGeom>
            <a:avLst/>
            <a:gdLst/>
            <a:ahLst/>
            <a:rect l="l" t="t" r="r" b="b"/>
            <a:pathLst>
              <a:path w="222" h="499">
                <a:moveTo>
                  <a:pt x="39" y="69"/>
                </a:moveTo>
                <a:lnTo>
                  <a:pt x="57" y="92"/>
                </a:lnTo>
                <a:lnTo>
                  <a:pt x="57" y="91"/>
                </a:lnTo>
                <a:lnTo>
                  <a:pt x="106" y="68"/>
                </a:lnTo>
                <a:lnTo>
                  <a:pt x="153" y="37"/>
                </a:lnTo>
                <a:lnTo>
                  <a:pt x="197" y="0"/>
                </a:lnTo>
                <a:lnTo>
                  <a:pt x="221" y="42"/>
                </a:lnTo>
                <a:lnTo>
                  <a:pt x="221" y="498"/>
                </a:lnTo>
                <a:lnTo>
                  <a:pt x="0" y="498"/>
                </a:lnTo>
                <a:lnTo>
                  <a:pt x="0" y="154"/>
                </a:lnTo>
                <a:lnTo>
                  <a:pt x="32" y="76"/>
                </a:lnTo>
                <a:lnTo>
                  <a:pt x="39" y="69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26440" y="2514600"/>
            <a:ext cx="195120" cy="120600"/>
          </a:xfrm>
          <a:custGeom>
            <a:avLst/>
            <a:gdLst/>
            <a:ahLst/>
            <a:rect l="l" t="t" r="r" b="b"/>
            <a:pathLst>
              <a:path w="123" h="76">
                <a:moveTo>
                  <a:pt x="122" y="22"/>
                </a:moveTo>
                <a:lnTo>
                  <a:pt x="69" y="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249760" y="2557440"/>
            <a:ext cx="120600" cy="6480"/>
          </a:xfrm>
          <a:prstGeom prst="line">
            <a:avLst/>
          </a:prstGeom>
          <a:ln w="12600">
            <a:solidFill>
              <a:srgbClr val="0e0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51920" y="2511360"/>
            <a:ext cx="129960" cy="574920"/>
          </a:xfrm>
          <a:custGeom>
            <a:avLst/>
            <a:gdLst/>
            <a:ahLst/>
            <a:rect l="l" t="t" r="r" b="b"/>
            <a:pathLst>
              <a:path w="82" h="362">
                <a:moveTo>
                  <a:pt x="81" y="37"/>
                </a:moveTo>
                <a:lnTo>
                  <a:pt x="64" y="68"/>
                </a:lnTo>
                <a:lnTo>
                  <a:pt x="69" y="76"/>
                </a:lnTo>
                <a:lnTo>
                  <a:pt x="75" y="188"/>
                </a:lnTo>
                <a:lnTo>
                  <a:pt x="69" y="346"/>
                </a:lnTo>
                <a:lnTo>
                  <a:pt x="0" y="361"/>
                </a:lnTo>
                <a:lnTo>
                  <a:pt x="23" y="136"/>
                </a:lnTo>
                <a:lnTo>
                  <a:pt x="46" y="68"/>
                </a:lnTo>
                <a:lnTo>
                  <a:pt x="40" y="23"/>
                </a:lnTo>
                <a:lnTo>
                  <a:pt x="46" y="0"/>
                </a:lnTo>
                <a:lnTo>
                  <a:pt x="81" y="37"/>
                </a:lnTo>
              </a:path>
            </a:pathLst>
          </a:custGeom>
          <a:solidFill>
            <a:srgbClr val="c68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56600" y="2511360"/>
            <a:ext cx="138240" cy="584280"/>
          </a:xfrm>
          <a:custGeom>
            <a:avLst/>
            <a:gdLst/>
            <a:ahLst/>
            <a:rect l="l" t="t" r="r" b="b"/>
            <a:pathLst>
              <a:path w="87" h="368">
                <a:moveTo>
                  <a:pt x="86" y="38"/>
                </a:moveTo>
                <a:lnTo>
                  <a:pt x="68" y="69"/>
                </a:lnTo>
                <a:lnTo>
                  <a:pt x="73" y="77"/>
                </a:lnTo>
                <a:lnTo>
                  <a:pt x="80" y="191"/>
                </a:lnTo>
                <a:lnTo>
                  <a:pt x="73" y="352"/>
                </a:lnTo>
                <a:lnTo>
                  <a:pt x="0" y="367"/>
                </a:lnTo>
                <a:lnTo>
                  <a:pt x="24" y="138"/>
                </a:lnTo>
                <a:lnTo>
                  <a:pt x="49" y="69"/>
                </a:lnTo>
                <a:lnTo>
                  <a:pt x="43" y="23"/>
                </a:lnTo>
                <a:lnTo>
                  <a:pt x="49" y="0"/>
                </a:lnTo>
                <a:lnTo>
                  <a:pt x="86" y="38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97840" y="2367000"/>
            <a:ext cx="816120" cy="3481200"/>
          </a:xfrm>
          <a:custGeom>
            <a:avLst/>
            <a:gdLst/>
            <a:ahLst/>
            <a:rect l="l" t="t" r="r" b="b"/>
            <a:pathLst>
              <a:path w="514" h="2193">
                <a:moveTo>
                  <a:pt x="42" y="1194"/>
                </a:moveTo>
                <a:lnTo>
                  <a:pt x="24" y="1080"/>
                </a:lnTo>
                <a:lnTo>
                  <a:pt x="0" y="1072"/>
                </a:lnTo>
                <a:lnTo>
                  <a:pt x="36" y="227"/>
                </a:lnTo>
                <a:lnTo>
                  <a:pt x="40" y="199"/>
                </a:lnTo>
                <a:lnTo>
                  <a:pt x="49" y="175"/>
                </a:lnTo>
                <a:lnTo>
                  <a:pt x="103" y="114"/>
                </a:lnTo>
                <a:lnTo>
                  <a:pt x="112" y="100"/>
                </a:lnTo>
                <a:lnTo>
                  <a:pt x="121" y="74"/>
                </a:lnTo>
                <a:lnTo>
                  <a:pt x="111" y="169"/>
                </a:lnTo>
                <a:lnTo>
                  <a:pt x="103" y="296"/>
                </a:lnTo>
                <a:lnTo>
                  <a:pt x="101" y="452"/>
                </a:lnTo>
                <a:lnTo>
                  <a:pt x="106" y="448"/>
                </a:lnTo>
                <a:lnTo>
                  <a:pt x="125" y="382"/>
                </a:lnTo>
                <a:lnTo>
                  <a:pt x="150" y="318"/>
                </a:lnTo>
                <a:lnTo>
                  <a:pt x="180" y="259"/>
                </a:lnTo>
                <a:lnTo>
                  <a:pt x="195" y="234"/>
                </a:lnTo>
                <a:lnTo>
                  <a:pt x="218" y="199"/>
                </a:lnTo>
                <a:lnTo>
                  <a:pt x="248" y="144"/>
                </a:lnTo>
                <a:lnTo>
                  <a:pt x="272" y="84"/>
                </a:lnTo>
                <a:lnTo>
                  <a:pt x="292" y="22"/>
                </a:lnTo>
                <a:lnTo>
                  <a:pt x="284" y="0"/>
                </a:lnTo>
                <a:lnTo>
                  <a:pt x="302" y="15"/>
                </a:lnTo>
                <a:lnTo>
                  <a:pt x="327" y="53"/>
                </a:lnTo>
                <a:lnTo>
                  <a:pt x="465" y="153"/>
                </a:lnTo>
                <a:lnTo>
                  <a:pt x="476" y="154"/>
                </a:lnTo>
                <a:lnTo>
                  <a:pt x="485" y="162"/>
                </a:lnTo>
                <a:lnTo>
                  <a:pt x="489" y="175"/>
                </a:lnTo>
                <a:lnTo>
                  <a:pt x="489" y="183"/>
                </a:lnTo>
                <a:lnTo>
                  <a:pt x="504" y="290"/>
                </a:lnTo>
                <a:lnTo>
                  <a:pt x="511" y="400"/>
                </a:lnTo>
                <a:lnTo>
                  <a:pt x="513" y="510"/>
                </a:lnTo>
                <a:lnTo>
                  <a:pt x="510" y="619"/>
                </a:lnTo>
                <a:lnTo>
                  <a:pt x="501" y="715"/>
                </a:lnTo>
                <a:lnTo>
                  <a:pt x="480" y="806"/>
                </a:lnTo>
                <a:lnTo>
                  <a:pt x="453" y="895"/>
                </a:lnTo>
                <a:lnTo>
                  <a:pt x="435" y="943"/>
                </a:lnTo>
                <a:lnTo>
                  <a:pt x="446" y="1091"/>
                </a:lnTo>
                <a:lnTo>
                  <a:pt x="447" y="1103"/>
                </a:lnTo>
                <a:lnTo>
                  <a:pt x="411" y="1103"/>
                </a:lnTo>
                <a:lnTo>
                  <a:pt x="411" y="2161"/>
                </a:lnTo>
                <a:lnTo>
                  <a:pt x="320" y="2192"/>
                </a:lnTo>
                <a:lnTo>
                  <a:pt x="266" y="2169"/>
                </a:lnTo>
                <a:lnTo>
                  <a:pt x="260" y="1948"/>
                </a:lnTo>
                <a:lnTo>
                  <a:pt x="254" y="1842"/>
                </a:lnTo>
                <a:lnTo>
                  <a:pt x="235" y="1637"/>
                </a:lnTo>
                <a:lnTo>
                  <a:pt x="230" y="1812"/>
                </a:lnTo>
                <a:lnTo>
                  <a:pt x="229" y="1832"/>
                </a:lnTo>
                <a:lnTo>
                  <a:pt x="230" y="1963"/>
                </a:lnTo>
                <a:lnTo>
                  <a:pt x="235" y="2092"/>
                </a:lnTo>
                <a:lnTo>
                  <a:pt x="55" y="2092"/>
                </a:lnTo>
                <a:lnTo>
                  <a:pt x="67" y="2055"/>
                </a:lnTo>
                <a:lnTo>
                  <a:pt x="61" y="2016"/>
                </a:lnTo>
                <a:lnTo>
                  <a:pt x="61" y="1637"/>
                </a:lnTo>
                <a:lnTo>
                  <a:pt x="42" y="1194"/>
                </a:lnTo>
              </a:path>
            </a:pathLst>
          </a:custGeom>
          <a:solidFill>
            <a:srgbClr val="044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02520" y="2367000"/>
            <a:ext cx="817560" cy="3490920"/>
          </a:xfrm>
          <a:custGeom>
            <a:avLst/>
            <a:gdLst/>
            <a:ahLst/>
            <a:rect l="l" t="t" r="r" b="b"/>
            <a:pathLst>
              <a:path w="515" h="2199">
                <a:moveTo>
                  <a:pt x="43" y="1197"/>
                </a:moveTo>
                <a:lnTo>
                  <a:pt x="24" y="1083"/>
                </a:lnTo>
                <a:lnTo>
                  <a:pt x="0" y="1075"/>
                </a:lnTo>
                <a:lnTo>
                  <a:pt x="36" y="228"/>
                </a:lnTo>
                <a:lnTo>
                  <a:pt x="40" y="200"/>
                </a:lnTo>
                <a:lnTo>
                  <a:pt x="49" y="175"/>
                </a:lnTo>
                <a:lnTo>
                  <a:pt x="103" y="114"/>
                </a:lnTo>
                <a:lnTo>
                  <a:pt x="112" y="100"/>
                </a:lnTo>
                <a:lnTo>
                  <a:pt x="121" y="74"/>
                </a:lnTo>
                <a:lnTo>
                  <a:pt x="111" y="169"/>
                </a:lnTo>
                <a:lnTo>
                  <a:pt x="103" y="297"/>
                </a:lnTo>
                <a:lnTo>
                  <a:pt x="102" y="453"/>
                </a:lnTo>
                <a:lnTo>
                  <a:pt x="106" y="449"/>
                </a:lnTo>
                <a:lnTo>
                  <a:pt x="125" y="383"/>
                </a:lnTo>
                <a:lnTo>
                  <a:pt x="151" y="319"/>
                </a:lnTo>
                <a:lnTo>
                  <a:pt x="181" y="260"/>
                </a:lnTo>
                <a:lnTo>
                  <a:pt x="196" y="235"/>
                </a:lnTo>
                <a:lnTo>
                  <a:pt x="218" y="200"/>
                </a:lnTo>
                <a:lnTo>
                  <a:pt x="248" y="144"/>
                </a:lnTo>
                <a:lnTo>
                  <a:pt x="273" y="84"/>
                </a:lnTo>
                <a:lnTo>
                  <a:pt x="292" y="22"/>
                </a:lnTo>
                <a:lnTo>
                  <a:pt x="285" y="0"/>
                </a:lnTo>
                <a:lnTo>
                  <a:pt x="303" y="15"/>
                </a:lnTo>
                <a:lnTo>
                  <a:pt x="327" y="53"/>
                </a:lnTo>
                <a:lnTo>
                  <a:pt x="466" y="153"/>
                </a:lnTo>
                <a:lnTo>
                  <a:pt x="477" y="154"/>
                </a:lnTo>
                <a:lnTo>
                  <a:pt x="486" y="162"/>
                </a:lnTo>
                <a:lnTo>
                  <a:pt x="490" y="175"/>
                </a:lnTo>
                <a:lnTo>
                  <a:pt x="490" y="183"/>
                </a:lnTo>
                <a:lnTo>
                  <a:pt x="505" y="291"/>
                </a:lnTo>
                <a:lnTo>
                  <a:pt x="512" y="401"/>
                </a:lnTo>
                <a:lnTo>
                  <a:pt x="514" y="511"/>
                </a:lnTo>
                <a:lnTo>
                  <a:pt x="511" y="621"/>
                </a:lnTo>
                <a:lnTo>
                  <a:pt x="502" y="717"/>
                </a:lnTo>
                <a:lnTo>
                  <a:pt x="481" y="808"/>
                </a:lnTo>
                <a:lnTo>
                  <a:pt x="454" y="897"/>
                </a:lnTo>
                <a:lnTo>
                  <a:pt x="436" y="946"/>
                </a:lnTo>
                <a:lnTo>
                  <a:pt x="447" y="1094"/>
                </a:lnTo>
                <a:lnTo>
                  <a:pt x="448" y="1106"/>
                </a:lnTo>
                <a:lnTo>
                  <a:pt x="412" y="1106"/>
                </a:lnTo>
                <a:lnTo>
                  <a:pt x="412" y="2167"/>
                </a:lnTo>
                <a:lnTo>
                  <a:pt x="321" y="2198"/>
                </a:lnTo>
                <a:lnTo>
                  <a:pt x="266" y="2175"/>
                </a:lnTo>
                <a:lnTo>
                  <a:pt x="260" y="1953"/>
                </a:lnTo>
                <a:lnTo>
                  <a:pt x="255" y="1847"/>
                </a:lnTo>
                <a:lnTo>
                  <a:pt x="236" y="1641"/>
                </a:lnTo>
                <a:lnTo>
                  <a:pt x="230" y="1817"/>
                </a:lnTo>
                <a:lnTo>
                  <a:pt x="229" y="1837"/>
                </a:lnTo>
                <a:lnTo>
                  <a:pt x="230" y="1968"/>
                </a:lnTo>
                <a:lnTo>
                  <a:pt x="236" y="2098"/>
                </a:lnTo>
                <a:lnTo>
                  <a:pt x="55" y="2098"/>
                </a:lnTo>
                <a:lnTo>
                  <a:pt x="67" y="2061"/>
                </a:lnTo>
                <a:lnTo>
                  <a:pt x="61" y="2022"/>
                </a:lnTo>
                <a:lnTo>
                  <a:pt x="61" y="1641"/>
                </a:lnTo>
                <a:lnTo>
                  <a:pt x="43" y="1197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37440" y="3760920"/>
            <a:ext cx="108000" cy="315720"/>
          </a:xfrm>
          <a:custGeom>
            <a:avLst/>
            <a:gdLst/>
            <a:ahLst/>
            <a:rect l="l" t="t" r="r" b="b"/>
            <a:pathLst>
              <a:path w="68" h="199">
                <a:moveTo>
                  <a:pt x="0" y="198"/>
                </a:moveTo>
                <a:lnTo>
                  <a:pt x="8" y="195"/>
                </a:lnTo>
                <a:lnTo>
                  <a:pt x="24" y="183"/>
                </a:lnTo>
                <a:lnTo>
                  <a:pt x="35" y="166"/>
                </a:lnTo>
                <a:lnTo>
                  <a:pt x="43" y="145"/>
                </a:lnTo>
                <a:lnTo>
                  <a:pt x="67" y="0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13760" y="2546280"/>
            <a:ext cx="50760" cy="560520"/>
          </a:xfrm>
          <a:custGeom>
            <a:avLst/>
            <a:gdLst/>
            <a:ahLst/>
            <a:rect l="l" t="t" r="r" b="b"/>
            <a:pathLst>
              <a:path w="32" h="353">
                <a:moveTo>
                  <a:pt x="25" y="352"/>
                </a:moveTo>
                <a:lnTo>
                  <a:pt x="0" y="116"/>
                </a:lnTo>
                <a:lnTo>
                  <a:pt x="19" y="93"/>
                </a:lnTo>
                <a:lnTo>
                  <a:pt x="0" y="77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523360" y="2706840"/>
            <a:ext cx="272880" cy="1352520"/>
          </a:xfrm>
          <a:custGeom>
            <a:avLst/>
            <a:gdLst/>
            <a:ahLst/>
            <a:rect l="l" t="t" r="r" b="b"/>
            <a:pathLst>
              <a:path w="172" h="852">
                <a:moveTo>
                  <a:pt x="122" y="0"/>
                </a:moveTo>
                <a:lnTo>
                  <a:pt x="108" y="40"/>
                </a:lnTo>
                <a:lnTo>
                  <a:pt x="100" y="84"/>
                </a:lnTo>
                <a:lnTo>
                  <a:pt x="98" y="129"/>
                </a:lnTo>
                <a:lnTo>
                  <a:pt x="88" y="187"/>
                </a:lnTo>
                <a:lnTo>
                  <a:pt x="72" y="326"/>
                </a:lnTo>
                <a:lnTo>
                  <a:pt x="61" y="465"/>
                </a:lnTo>
                <a:lnTo>
                  <a:pt x="0" y="809"/>
                </a:lnTo>
                <a:lnTo>
                  <a:pt x="37" y="831"/>
                </a:lnTo>
                <a:lnTo>
                  <a:pt x="76" y="846"/>
                </a:lnTo>
                <a:lnTo>
                  <a:pt x="118" y="851"/>
                </a:lnTo>
                <a:lnTo>
                  <a:pt x="156" y="768"/>
                </a:lnTo>
                <a:lnTo>
                  <a:pt x="171" y="748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44000" y="2451240"/>
            <a:ext cx="377640" cy="741240"/>
          </a:xfrm>
          <a:custGeom>
            <a:avLst/>
            <a:gdLst/>
            <a:ahLst/>
            <a:rect l="l" t="t" r="r" b="b"/>
            <a:pathLst>
              <a:path w="238" h="467">
                <a:moveTo>
                  <a:pt x="0" y="466"/>
                </a:moveTo>
                <a:lnTo>
                  <a:pt x="36" y="435"/>
                </a:lnTo>
                <a:lnTo>
                  <a:pt x="78" y="389"/>
                </a:lnTo>
                <a:lnTo>
                  <a:pt x="118" y="336"/>
                </a:lnTo>
                <a:lnTo>
                  <a:pt x="152" y="279"/>
                </a:lnTo>
                <a:lnTo>
                  <a:pt x="182" y="217"/>
                </a:lnTo>
                <a:lnTo>
                  <a:pt x="164" y="179"/>
                </a:lnTo>
                <a:lnTo>
                  <a:pt x="206" y="171"/>
                </a:lnTo>
                <a:lnTo>
                  <a:pt x="215" y="150"/>
                </a:lnTo>
                <a:lnTo>
                  <a:pt x="227" y="101"/>
                </a:lnTo>
                <a:lnTo>
                  <a:pt x="235" y="51"/>
                </a:lnTo>
                <a:lnTo>
                  <a:pt x="237" y="0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8960" y="3081240"/>
            <a:ext cx="517680" cy="1042920"/>
          </a:xfrm>
          <a:custGeom>
            <a:avLst/>
            <a:gdLst/>
            <a:ahLst/>
            <a:rect l="l" t="t" r="r" b="b"/>
            <a:pathLst>
              <a:path w="326" h="657">
                <a:moveTo>
                  <a:pt x="17" y="0"/>
                </a:moveTo>
                <a:lnTo>
                  <a:pt x="2" y="71"/>
                </a:lnTo>
                <a:lnTo>
                  <a:pt x="0" y="197"/>
                </a:lnTo>
                <a:lnTo>
                  <a:pt x="3" y="323"/>
                </a:lnTo>
                <a:lnTo>
                  <a:pt x="12" y="448"/>
                </a:lnTo>
                <a:lnTo>
                  <a:pt x="27" y="573"/>
                </a:lnTo>
                <a:lnTo>
                  <a:pt x="36" y="598"/>
                </a:lnTo>
                <a:lnTo>
                  <a:pt x="52" y="621"/>
                </a:lnTo>
                <a:lnTo>
                  <a:pt x="72" y="640"/>
                </a:lnTo>
                <a:lnTo>
                  <a:pt x="94" y="652"/>
                </a:lnTo>
                <a:lnTo>
                  <a:pt x="118" y="656"/>
                </a:lnTo>
                <a:lnTo>
                  <a:pt x="325" y="656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24720" y="4016520"/>
            <a:ext cx="246240" cy="233280"/>
          </a:xfrm>
          <a:custGeom>
            <a:avLst/>
            <a:gdLst/>
            <a:ahLst/>
            <a:rect l="l" t="t" r="r" b="b"/>
            <a:pathLst>
              <a:path w="155" h="147">
                <a:moveTo>
                  <a:pt x="154" y="36"/>
                </a:moveTo>
                <a:lnTo>
                  <a:pt x="149" y="64"/>
                </a:lnTo>
                <a:lnTo>
                  <a:pt x="142" y="94"/>
                </a:lnTo>
                <a:lnTo>
                  <a:pt x="135" y="115"/>
                </a:lnTo>
                <a:lnTo>
                  <a:pt x="125" y="136"/>
                </a:lnTo>
                <a:lnTo>
                  <a:pt x="119" y="144"/>
                </a:lnTo>
                <a:lnTo>
                  <a:pt x="111" y="145"/>
                </a:lnTo>
                <a:lnTo>
                  <a:pt x="104" y="144"/>
                </a:lnTo>
                <a:lnTo>
                  <a:pt x="99" y="140"/>
                </a:lnTo>
                <a:lnTo>
                  <a:pt x="89" y="146"/>
                </a:lnTo>
                <a:lnTo>
                  <a:pt x="75" y="146"/>
                </a:lnTo>
                <a:lnTo>
                  <a:pt x="65" y="143"/>
                </a:lnTo>
                <a:lnTo>
                  <a:pt x="59" y="138"/>
                </a:lnTo>
                <a:lnTo>
                  <a:pt x="47" y="137"/>
                </a:lnTo>
                <a:lnTo>
                  <a:pt x="34" y="131"/>
                </a:lnTo>
                <a:lnTo>
                  <a:pt x="1" y="101"/>
                </a:lnTo>
                <a:lnTo>
                  <a:pt x="0" y="94"/>
                </a:lnTo>
                <a:lnTo>
                  <a:pt x="11" y="58"/>
                </a:lnTo>
                <a:lnTo>
                  <a:pt x="22" y="37"/>
                </a:lnTo>
                <a:lnTo>
                  <a:pt x="35" y="20"/>
                </a:lnTo>
                <a:lnTo>
                  <a:pt x="51" y="12"/>
                </a:lnTo>
                <a:lnTo>
                  <a:pt x="70" y="0"/>
                </a:lnTo>
                <a:lnTo>
                  <a:pt x="154" y="36"/>
                </a:lnTo>
              </a:path>
            </a:pathLst>
          </a:custGeom>
          <a:solidFill>
            <a:srgbClr val="ffa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16800" y="4016520"/>
            <a:ext cx="254160" cy="242640"/>
          </a:xfrm>
          <a:custGeom>
            <a:avLst/>
            <a:gdLst/>
            <a:ahLst/>
            <a:rect l="l" t="t" r="r" b="b"/>
            <a:pathLst>
              <a:path w="160" h="153">
                <a:moveTo>
                  <a:pt x="159" y="37"/>
                </a:moveTo>
                <a:lnTo>
                  <a:pt x="153" y="67"/>
                </a:lnTo>
                <a:lnTo>
                  <a:pt x="146" y="98"/>
                </a:lnTo>
                <a:lnTo>
                  <a:pt x="139" y="120"/>
                </a:lnTo>
                <a:lnTo>
                  <a:pt x="129" y="142"/>
                </a:lnTo>
                <a:lnTo>
                  <a:pt x="122" y="150"/>
                </a:lnTo>
                <a:lnTo>
                  <a:pt x="114" y="151"/>
                </a:lnTo>
                <a:lnTo>
                  <a:pt x="107" y="150"/>
                </a:lnTo>
                <a:lnTo>
                  <a:pt x="102" y="146"/>
                </a:lnTo>
                <a:lnTo>
                  <a:pt x="91" y="152"/>
                </a:lnTo>
                <a:lnTo>
                  <a:pt x="77" y="152"/>
                </a:lnTo>
                <a:lnTo>
                  <a:pt x="67" y="149"/>
                </a:lnTo>
                <a:lnTo>
                  <a:pt x="61" y="144"/>
                </a:lnTo>
                <a:lnTo>
                  <a:pt x="48" y="143"/>
                </a:lnTo>
                <a:lnTo>
                  <a:pt x="35" y="136"/>
                </a:lnTo>
                <a:lnTo>
                  <a:pt x="1" y="105"/>
                </a:lnTo>
                <a:lnTo>
                  <a:pt x="0" y="98"/>
                </a:lnTo>
                <a:lnTo>
                  <a:pt x="11" y="60"/>
                </a:lnTo>
                <a:lnTo>
                  <a:pt x="22" y="39"/>
                </a:lnTo>
                <a:lnTo>
                  <a:pt x="37" y="21"/>
                </a:lnTo>
                <a:lnTo>
                  <a:pt x="52" y="13"/>
                </a:lnTo>
                <a:lnTo>
                  <a:pt x="72" y="0"/>
                </a:lnTo>
                <a:lnTo>
                  <a:pt x="159" y="37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531280" y="3992400"/>
            <a:ext cx="169920" cy="86040"/>
          </a:xfrm>
          <a:custGeom>
            <a:avLst/>
            <a:gdLst/>
            <a:ahLst/>
            <a:rect l="l" t="t" r="r" b="b"/>
            <a:pathLst>
              <a:path w="107" h="54">
                <a:moveTo>
                  <a:pt x="73" y="32"/>
                </a:moveTo>
                <a:lnTo>
                  <a:pt x="35" y="19"/>
                </a:lnTo>
                <a:lnTo>
                  <a:pt x="3" y="0"/>
                </a:lnTo>
                <a:lnTo>
                  <a:pt x="0" y="12"/>
                </a:lnTo>
                <a:lnTo>
                  <a:pt x="19" y="23"/>
                </a:lnTo>
                <a:lnTo>
                  <a:pt x="59" y="41"/>
                </a:lnTo>
                <a:lnTo>
                  <a:pt x="100" y="53"/>
                </a:lnTo>
                <a:lnTo>
                  <a:pt x="106" y="36"/>
                </a:lnTo>
                <a:lnTo>
                  <a:pt x="73" y="3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523360" y="3992400"/>
            <a:ext cx="177840" cy="95400"/>
          </a:xfrm>
          <a:custGeom>
            <a:avLst/>
            <a:gdLst/>
            <a:ahLst/>
            <a:rect l="l" t="t" r="r" b="b"/>
            <a:pathLst>
              <a:path w="112" h="60">
                <a:moveTo>
                  <a:pt x="76" y="36"/>
                </a:moveTo>
                <a:lnTo>
                  <a:pt x="37" y="21"/>
                </a:lnTo>
                <a:lnTo>
                  <a:pt x="3" y="0"/>
                </a:lnTo>
                <a:lnTo>
                  <a:pt x="0" y="13"/>
                </a:lnTo>
                <a:lnTo>
                  <a:pt x="20" y="26"/>
                </a:lnTo>
                <a:lnTo>
                  <a:pt x="62" y="46"/>
                </a:lnTo>
                <a:lnTo>
                  <a:pt x="105" y="59"/>
                </a:lnTo>
                <a:lnTo>
                  <a:pt x="111" y="40"/>
                </a:lnTo>
                <a:lnTo>
                  <a:pt x="76" y="36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2360" y="5637240"/>
            <a:ext cx="346320" cy="0"/>
          </a:xfrm>
          <a:prstGeom prst="line">
            <a:avLst/>
          </a:prstGeom>
          <a:ln w="12600">
            <a:solidFill>
              <a:srgbClr val="0e0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21560" y="5745240"/>
            <a:ext cx="235080" cy="50760"/>
          </a:xfrm>
          <a:custGeom>
            <a:avLst/>
            <a:gdLst/>
            <a:ahLst/>
            <a:rect l="l" t="t" r="r" b="b"/>
            <a:pathLst>
              <a:path w="148" h="32">
                <a:moveTo>
                  <a:pt x="147" y="0"/>
                </a:moveTo>
                <a:lnTo>
                  <a:pt x="56" y="31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15480" y="4121280"/>
            <a:ext cx="877680" cy="831600"/>
          </a:xfrm>
          <a:custGeom>
            <a:avLst/>
            <a:gdLst/>
            <a:ahLst/>
            <a:rect l="l" t="t" r="r" b="b"/>
            <a:pathLst>
              <a:path w="553" h="524">
                <a:moveTo>
                  <a:pt x="528" y="92"/>
                </a:moveTo>
                <a:lnTo>
                  <a:pt x="552" y="123"/>
                </a:lnTo>
                <a:lnTo>
                  <a:pt x="552" y="493"/>
                </a:lnTo>
                <a:lnTo>
                  <a:pt x="528" y="523"/>
                </a:lnTo>
                <a:lnTo>
                  <a:pt x="43" y="523"/>
                </a:lnTo>
                <a:lnTo>
                  <a:pt x="0" y="491"/>
                </a:lnTo>
                <a:lnTo>
                  <a:pt x="0" y="129"/>
                </a:lnTo>
                <a:lnTo>
                  <a:pt x="43" y="92"/>
                </a:lnTo>
                <a:lnTo>
                  <a:pt x="174" y="92"/>
                </a:lnTo>
                <a:lnTo>
                  <a:pt x="177" y="78"/>
                </a:lnTo>
                <a:lnTo>
                  <a:pt x="182" y="64"/>
                </a:lnTo>
                <a:lnTo>
                  <a:pt x="188" y="49"/>
                </a:lnTo>
                <a:lnTo>
                  <a:pt x="194" y="40"/>
                </a:lnTo>
                <a:lnTo>
                  <a:pt x="209" y="37"/>
                </a:lnTo>
                <a:lnTo>
                  <a:pt x="222" y="27"/>
                </a:lnTo>
                <a:lnTo>
                  <a:pt x="231" y="14"/>
                </a:lnTo>
                <a:lnTo>
                  <a:pt x="239" y="0"/>
                </a:lnTo>
                <a:lnTo>
                  <a:pt x="235" y="39"/>
                </a:lnTo>
                <a:lnTo>
                  <a:pt x="228" y="44"/>
                </a:lnTo>
                <a:lnTo>
                  <a:pt x="220" y="50"/>
                </a:lnTo>
                <a:lnTo>
                  <a:pt x="214" y="57"/>
                </a:lnTo>
                <a:lnTo>
                  <a:pt x="207" y="68"/>
                </a:lnTo>
                <a:lnTo>
                  <a:pt x="203" y="80"/>
                </a:lnTo>
                <a:lnTo>
                  <a:pt x="200" y="92"/>
                </a:lnTo>
                <a:lnTo>
                  <a:pt x="338" y="92"/>
                </a:lnTo>
                <a:lnTo>
                  <a:pt x="338" y="82"/>
                </a:lnTo>
                <a:lnTo>
                  <a:pt x="336" y="73"/>
                </a:lnTo>
                <a:lnTo>
                  <a:pt x="335" y="64"/>
                </a:lnTo>
                <a:lnTo>
                  <a:pt x="331" y="54"/>
                </a:lnTo>
                <a:lnTo>
                  <a:pt x="331" y="53"/>
                </a:lnTo>
                <a:lnTo>
                  <a:pt x="338" y="32"/>
                </a:lnTo>
                <a:lnTo>
                  <a:pt x="341" y="21"/>
                </a:lnTo>
                <a:lnTo>
                  <a:pt x="346" y="30"/>
                </a:lnTo>
                <a:lnTo>
                  <a:pt x="353" y="41"/>
                </a:lnTo>
                <a:lnTo>
                  <a:pt x="358" y="52"/>
                </a:lnTo>
                <a:lnTo>
                  <a:pt x="361" y="65"/>
                </a:lnTo>
                <a:lnTo>
                  <a:pt x="363" y="77"/>
                </a:lnTo>
                <a:lnTo>
                  <a:pt x="363" y="84"/>
                </a:lnTo>
                <a:lnTo>
                  <a:pt x="364" y="92"/>
                </a:lnTo>
                <a:lnTo>
                  <a:pt x="366" y="92"/>
                </a:lnTo>
                <a:lnTo>
                  <a:pt x="528" y="92"/>
                </a:lnTo>
              </a:path>
            </a:pathLst>
          </a:custGeom>
          <a:solidFill>
            <a:srgbClr val="b7b7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09000" y="4121280"/>
            <a:ext cx="884160" cy="841320"/>
          </a:xfrm>
          <a:custGeom>
            <a:avLst/>
            <a:gdLst/>
            <a:ahLst/>
            <a:rect l="l" t="t" r="r" b="b"/>
            <a:pathLst>
              <a:path w="557" h="530">
                <a:moveTo>
                  <a:pt x="532" y="93"/>
                </a:moveTo>
                <a:lnTo>
                  <a:pt x="556" y="124"/>
                </a:lnTo>
                <a:lnTo>
                  <a:pt x="556" y="499"/>
                </a:lnTo>
                <a:lnTo>
                  <a:pt x="532" y="529"/>
                </a:lnTo>
                <a:lnTo>
                  <a:pt x="43" y="529"/>
                </a:lnTo>
                <a:lnTo>
                  <a:pt x="0" y="497"/>
                </a:lnTo>
                <a:lnTo>
                  <a:pt x="0" y="130"/>
                </a:lnTo>
                <a:lnTo>
                  <a:pt x="44" y="93"/>
                </a:lnTo>
                <a:lnTo>
                  <a:pt x="175" y="93"/>
                </a:lnTo>
                <a:lnTo>
                  <a:pt x="178" y="79"/>
                </a:lnTo>
                <a:lnTo>
                  <a:pt x="183" y="65"/>
                </a:lnTo>
                <a:lnTo>
                  <a:pt x="190" y="50"/>
                </a:lnTo>
                <a:lnTo>
                  <a:pt x="196" y="40"/>
                </a:lnTo>
                <a:lnTo>
                  <a:pt x="211" y="37"/>
                </a:lnTo>
                <a:lnTo>
                  <a:pt x="224" y="27"/>
                </a:lnTo>
                <a:lnTo>
                  <a:pt x="232" y="14"/>
                </a:lnTo>
                <a:lnTo>
                  <a:pt x="240" y="0"/>
                </a:lnTo>
                <a:lnTo>
                  <a:pt x="237" y="39"/>
                </a:lnTo>
                <a:lnTo>
                  <a:pt x="230" y="44"/>
                </a:lnTo>
                <a:lnTo>
                  <a:pt x="222" y="51"/>
                </a:lnTo>
                <a:lnTo>
                  <a:pt x="216" y="58"/>
                </a:lnTo>
                <a:lnTo>
                  <a:pt x="209" y="69"/>
                </a:lnTo>
                <a:lnTo>
                  <a:pt x="205" y="81"/>
                </a:lnTo>
                <a:lnTo>
                  <a:pt x="201" y="93"/>
                </a:lnTo>
                <a:lnTo>
                  <a:pt x="340" y="93"/>
                </a:lnTo>
                <a:lnTo>
                  <a:pt x="340" y="83"/>
                </a:lnTo>
                <a:lnTo>
                  <a:pt x="339" y="74"/>
                </a:lnTo>
                <a:lnTo>
                  <a:pt x="337" y="65"/>
                </a:lnTo>
                <a:lnTo>
                  <a:pt x="333" y="55"/>
                </a:lnTo>
                <a:lnTo>
                  <a:pt x="333" y="54"/>
                </a:lnTo>
                <a:lnTo>
                  <a:pt x="340" y="32"/>
                </a:lnTo>
                <a:lnTo>
                  <a:pt x="343" y="21"/>
                </a:lnTo>
                <a:lnTo>
                  <a:pt x="349" y="30"/>
                </a:lnTo>
                <a:lnTo>
                  <a:pt x="355" y="41"/>
                </a:lnTo>
                <a:lnTo>
                  <a:pt x="360" y="53"/>
                </a:lnTo>
                <a:lnTo>
                  <a:pt x="363" y="66"/>
                </a:lnTo>
                <a:lnTo>
                  <a:pt x="366" y="78"/>
                </a:lnTo>
                <a:lnTo>
                  <a:pt x="366" y="85"/>
                </a:lnTo>
                <a:lnTo>
                  <a:pt x="366" y="93"/>
                </a:lnTo>
                <a:lnTo>
                  <a:pt x="369" y="93"/>
                </a:lnTo>
                <a:lnTo>
                  <a:pt x="532" y="93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40680" y="4268880"/>
            <a:ext cx="39600" cy="693720"/>
          </a:xfrm>
          <a:custGeom>
            <a:avLst/>
            <a:gdLst/>
            <a:ahLst/>
            <a:rect l="l" t="t" r="r" b="b"/>
            <a:pathLst>
              <a:path w="25" h="437">
                <a:moveTo>
                  <a:pt x="22" y="0"/>
                </a:moveTo>
                <a:lnTo>
                  <a:pt x="0" y="29"/>
                </a:lnTo>
                <a:lnTo>
                  <a:pt x="0" y="406"/>
                </a:lnTo>
                <a:lnTo>
                  <a:pt x="24" y="436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86760" y="4309920"/>
            <a:ext cx="770040" cy="608040"/>
          </a:xfrm>
          <a:custGeom>
            <a:avLst/>
            <a:gdLst/>
            <a:ahLst/>
            <a:rect l="l" t="t" r="r" b="b"/>
            <a:pathLst>
              <a:path w="485" h="383">
                <a:moveTo>
                  <a:pt x="464" y="0"/>
                </a:moveTo>
                <a:lnTo>
                  <a:pt x="484" y="24"/>
                </a:lnTo>
                <a:lnTo>
                  <a:pt x="484" y="360"/>
                </a:lnTo>
                <a:lnTo>
                  <a:pt x="467" y="382"/>
                </a:lnTo>
                <a:lnTo>
                  <a:pt x="19" y="382"/>
                </a:lnTo>
                <a:lnTo>
                  <a:pt x="0" y="359"/>
                </a:lnTo>
                <a:lnTo>
                  <a:pt x="0" y="19"/>
                </a:lnTo>
                <a:lnTo>
                  <a:pt x="16" y="0"/>
                </a:lnTo>
                <a:lnTo>
                  <a:pt x="464" y="0"/>
                </a:lnTo>
              </a:path>
            </a:pathLst>
          </a:custGeom>
          <a:solidFill>
            <a:srgbClr val="ff2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78840" y="4309920"/>
            <a:ext cx="777960" cy="617760"/>
          </a:xfrm>
          <a:custGeom>
            <a:avLst/>
            <a:gdLst/>
            <a:ahLst/>
            <a:rect l="l" t="t" r="r" b="b"/>
            <a:pathLst>
              <a:path w="490" h="389">
                <a:moveTo>
                  <a:pt x="468" y="0"/>
                </a:moveTo>
                <a:lnTo>
                  <a:pt x="489" y="24"/>
                </a:lnTo>
                <a:lnTo>
                  <a:pt x="489" y="366"/>
                </a:lnTo>
                <a:lnTo>
                  <a:pt x="472" y="388"/>
                </a:lnTo>
                <a:lnTo>
                  <a:pt x="19" y="388"/>
                </a:lnTo>
                <a:lnTo>
                  <a:pt x="0" y="365"/>
                </a:lnTo>
                <a:lnTo>
                  <a:pt x="0" y="19"/>
                </a:lnTo>
                <a:lnTo>
                  <a:pt x="16" y="0"/>
                </a:lnTo>
                <a:lnTo>
                  <a:pt x="468" y="0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8523360" y="4167000"/>
            <a:ext cx="0" cy="112680"/>
          </a:xfrm>
          <a:prstGeom prst="line">
            <a:avLst/>
          </a:prstGeom>
          <a:ln w="12600">
            <a:solidFill>
              <a:srgbClr val="0e0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556480" y="4179960"/>
            <a:ext cx="0" cy="115920"/>
          </a:xfrm>
          <a:prstGeom prst="line">
            <a:avLst/>
          </a:prstGeom>
          <a:ln w="12600">
            <a:solidFill>
              <a:srgbClr val="0e0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8589960" y="4183200"/>
            <a:ext cx="0" cy="102960"/>
          </a:xfrm>
          <a:prstGeom prst="line">
            <a:avLst/>
          </a:prstGeom>
          <a:ln w="12600">
            <a:solidFill>
              <a:srgbClr val="0e0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6360" y="205884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14" y="0"/>
                </a:moveTo>
                <a:lnTo>
                  <a:pt x="0" y="0"/>
                </a:lnTo>
                <a:lnTo>
                  <a:pt x="1" y="6"/>
                </a:lnTo>
                <a:lnTo>
                  <a:pt x="12" y="6"/>
                </a:lnTo>
                <a:lnTo>
                  <a:pt x="32" y="16"/>
                </a:lnTo>
                <a:lnTo>
                  <a:pt x="14" y="0"/>
                </a:lnTo>
              </a:path>
            </a:pathLst>
          </a:custGeom>
          <a:solidFill>
            <a:srgbClr val="0e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218440" y="2058840"/>
            <a:ext cx="60480" cy="27000"/>
          </a:xfrm>
          <a:custGeom>
            <a:avLst/>
            <a:gdLst/>
            <a:ahLst/>
            <a:rect l="l" t="t" r="r" b="b"/>
            <a:pathLst>
              <a:path w="38" h="17">
                <a:moveTo>
                  <a:pt x="16" y="1"/>
                </a:moveTo>
                <a:lnTo>
                  <a:pt x="0" y="0"/>
                </a:lnTo>
                <a:lnTo>
                  <a:pt x="2" y="7"/>
                </a:lnTo>
                <a:lnTo>
                  <a:pt x="14" y="5"/>
                </a:lnTo>
                <a:lnTo>
                  <a:pt x="37" y="16"/>
                </a:lnTo>
                <a:lnTo>
                  <a:pt x="16" y="1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48680" y="210492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0"/>
                </a:moveTo>
                <a:lnTo>
                  <a:pt x="21" y="8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solidFill>
            <a:srgbClr val="0e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240760" y="210492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26" y="8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37520" y="1828800"/>
            <a:ext cx="384120" cy="468360"/>
          </a:xfrm>
          <a:custGeom>
            <a:avLst/>
            <a:gdLst/>
            <a:ahLst/>
            <a:rect l="l" t="t" r="r" b="b"/>
            <a:pathLst>
              <a:path w="242" h="295">
                <a:moveTo>
                  <a:pt x="198" y="270"/>
                </a:moveTo>
                <a:lnTo>
                  <a:pt x="206" y="253"/>
                </a:lnTo>
                <a:lnTo>
                  <a:pt x="229" y="216"/>
                </a:lnTo>
                <a:lnTo>
                  <a:pt x="237" y="182"/>
                </a:lnTo>
                <a:lnTo>
                  <a:pt x="241" y="149"/>
                </a:lnTo>
                <a:lnTo>
                  <a:pt x="237" y="116"/>
                </a:lnTo>
                <a:lnTo>
                  <a:pt x="216" y="65"/>
                </a:lnTo>
                <a:lnTo>
                  <a:pt x="206" y="50"/>
                </a:lnTo>
                <a:lnTo>
                  <a:pt x="188" y="27"/>
                </a:lnTo>
                <a:lnTo>
                  <a:pt x="165" y="9"/>
                </a:lnTo>
                <a:lnTo>
                  <a:pt x="139" y="3"/>
                </a:lnTo>
                <a:lnTo>
                  <a:pt x="113" y="0"/>
                </a:lnTo>
                <a:lnTo>
                  <a:pt x="86" y="2"/>
                </a:lnTo>
                <a:lnTo>
                  <a:pt x="69" y="4"/>
                </a:lnTo>
                <a:lnTo>
                  <a:pt x="40" y="11"/>
                </a:lnTo>
                <a:lnTo>
                  <a:pt x="25" y="17"/>
                </a:lnTo>
                <a:lnTo>
                  <a:pt x="12" y="28"/>
                </a:lnTo>
                <a:lnTo>
                  <a:pt x="3" y="45"/>
                </a:lnTo>
                <a:lnTo>
                  <a:pt x="0" y="65"/>
                </a:lnTo>
                <a:lnTo>
                  <a:pt x="3" y="85"/>
                </a:lnTo>
                <a:lnTo>
                  <a:pt x="33" y="73"/>
                </a:lnTo>
                <a:lnTo>
                  <a:pt x="64" y="69"/>
                </a:lnTo>
                <a:lnTo>
                  <a:pt x="92" y="71"/>
                </a:lnTo>
                <a:lnTo>
                  <a:pt x="104" y="74"/>
                </a:lnTo>
                <a:lnTo>
                  <a:pt x="92" y="93"/>
                </a:lnTo>
                <a:lnTo>
                  <a:pt x="83" y="119"/>
                </a:lnTo>
                <a:lnTo>
                  <a:pt x="83" y="127"/>
                </a:lnTo>
                <a:lnTo>
                  <a:pt x="90" y="145"/>
                </a:lnTo>
                <a:lnTo>
                  <a:pt x="112" y="181"/>
                </a:lnTo>
                <a:lnTo>
                  <a:pt x="134" y="181"/>
                </a:lnTo>
                <a:lnTo>
                  <a:pt x="136" y="170"/>
                </a:lnTo>
                <a:lnTo>
                  <a:pt x="139" y="165"/>
                </a:lnTo>
                <a:lnTo>
                  <a:pt x="145" y="159"/>
                </a:lnTo>
                <a:lnTo>
                  <a:pt x="152" y="157"/>
                </a:lnTo>
                <a:lnTo>
                  <a:pt x="163" y="161"/>
                </a:lnTo>
                <a:lnTo>
                  <a:pt x="172" y="172"/>
                </a:lnTo>
                <a:lnTo>
                  <a:pt x="176" y="186"/>
                </a:lnTo>
                <a:lnTo>
                  <a:pt x="175" y="197"/>
                </a:lnTo>
                <a:lnTo>
                  <a:pt x="174" y="206"/>
                </a:lnTo>
                <a:lnTo>
                  <a:pt x="169" y="222"/>
                </a:lnTo>
                <a:lnTo>
                  <a:pt x="162" y="237"/>
                </a:lnTo>
                <a:lnTo>
                  <a:pt x="157" y="242"/>
                </a:lnTo>
                <a:lnTo>
                  <a:pt x="167" y="257"/>
                </a:lnTo>
                <a:lnTo>
                  <a:pt x="174" y="270"/>
                </a:lnTo>
                <a:lnTo>
                  <a:pt x="184" y="284"/>
                </a:lnTo>
                <a:lnTo>
                  <a:pt x="193" y="294"/>
                </a:lnTo>
                <a:lnTo>
                  <a:pt x="198" y="270"/>
                </a:lnTo>
              </a:path>
            </a:pathLst>
          </a:custGeom>
          <a:solidFill>
            <a:srgbClr val="0e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36080" y="1828800"/>
            <a:ext cx="392040" cy="477720"/>
          </a:xfrm>
          <a:custGeom>
            <a:avLst/>
            <a:gdLst/>
            <a:ahLst/>
            <a:rect l="l" t="t" r="r" b="b"/>
            <a:pathLst>
              <a:path w="247" h="301">
                <a:moveTo>
                  <a:pt x="202" y="276"/>
                </a:moveTo>
                <a:lnTo>
                  <a:pt x="210" y="258"/>
                </a:lnTo>
                <a:lnTo>
                  <a:pt x="233" y="220"/>
                </a:lnTo>
                <a:lnTo>
                  <a:pt x="242" y="186"/>
                </a:lnTo>
                <a:lnTo>
                  <a:pt x="246" y="152"/>
                </a:lnTo>
                <a:lnTo>
                  <a:pt x="242" y="118"/>
                </a:lnTo>
                <a:lnTo>
                  <a:pt x="221" y="66"/>
                </a:lnTo>
                <a:lnTo>
                  <a:pt x="210" y="51"/>
                </a:lnTo>
                <a:lnTo>
                  <a:pt x="192" y="28"/>
                </a:lnTo>
                <a:lnTo>
                  <a:pt x="168" y="9"/>
                </a:lnTo>
                <a:lnTo>
                  <a:pt x="142" y="3"/>
                </a:lnTo>
                <a:lnTo>
                  <a:pt x="115" y="0"/>
                </a:lnTo>
                <a:lnTo>
                  <a:pt x="88" y="2"/>
                </a:lnTo>
                <a:lnTo>
                  <a:pt x="70" y="4"/>
                </a:lnTo>
                <a:lnTo>
                  <a:pt x="41" y="11"/>
                </a:lnTo>
                <a:lnTo>
                  <a:pt x="25" y="17"/>
                </a:lnTo>
                <a:lnTo>
                  <a:pt x="13" y="29"/>
                </a:lnTo>
                <a:lnTo>
                  <a:pt x="3" y="46"/>
                </a:lnTo>
                <a:lnTo>
                  <a:pt x="0" y="66"/>
                </a:lnTo>
                <a:lnTo>
                  <a:pt x="3" y="87"/>
                </a:lnTo>
                <a:lnTo>
                  <a:pt x="33" y="74"/>
                </a:lnTo>
                <a:lnTo>
                  <a:pt x="65" y="70"/>
                </a:lnTo>
                <a:lnTo>
                  <a:pt x="94" y="72"/>
                </a:lnTo>
                <a:lnTo>
                  <a:pt x="106" y="75"/>
                </a:lnTo>
                <a:lnTo>
                  <a:pt x="94" y="95"/>
                </a:lnTo>
                <a:lnTo>
                  <a:pt x="85" y="121"/>
                </a:lnTo>
                <a:lnTo>
                  <a:pt x="85" y="130"/>
                </a:lnTo>
                <a:lnTo>
                  <a:pt x="92" y="148"/>
                </a:lnTo>
                <a:lnTo>
                  <a:pt x="114" y="185"/>
                </a:lnTo>
                <a:lnTo>
                  <a:pt x="137" y="185"/>
                </a:lnTo>
                <a:lnTo>
                  <a:pt x="139" y="173"/>
                </a:lnTo>
                <a:lnTo>
                  <a:pt x="142" y="168"/>
                </a:lnTo>
                <a:lnTo>
                  <a:pt x="148" y="162"/>
                </a:lnTo>
                <a:lnTo>
                  <a:pt x="155" y="160"/>
                </a:lnTo>
                <a:lnTo>
                  <a:pt x="166" y="164"/>
                </a:lnTo>
                <a:lnTo>
                  <a:pt x="176" y="176"/>
                </a:lnTo>
                <a:lnTo>
                  <a:pt x="180" y="190"/>
                </a:lnTo>
                <a:lnTo>
                  <a:pt x="179" y="201"/>
                </a:lnTo>
                <a:lnTo>
                  <a:pt x="178" y="210"/>
                </a:lnTo>
                <a:lnTo>
                  <a:pt x="172" y="227"/>
                </a:lnTo>
                <a:lnTo>
                  <a:pt x="165" y="242"/>
                </a:lnTo>
                <a:lnTo>
                  <a:pt x="161" y="247"/>
                </a:lnTo>
                <a:lnTo>
                  <a:pt x="170" y="262"/>
                </a:lnTo>
                <a:lnTo>
                  <a:pt x="178" y="276"/>
                </a:lnTo>
                <a:lnTo>
                  <a:pt x="188" y="290"/>
                </a:lnTo>
                <a:lnTo>
                  <a:pt x="197" y="300"/>
                </a:lnTo>
                <a:lnTo>
                  <a:pt x="202" y="276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13920" y="2212920"/>
            <a:ext cx="74520" cy="90720"/>
          </a:xfrm>
          <a:custGeom>
            <a:avLst/>
            <a:gdLst/>
            <a:ahLst/>
            <a:rect l="l" t="t" r="r" b="b"/>
            <a:pathLst>
              <a:path w="47" h="57">
                <a:moveTo>
                  <a:pt x="46" y="5"/>
                </a:moveTo>
                <a:lnTo>
                  <a:pt x="39" y="9"/>
                </a:lnTo>
                <a:lnTo>
                  <a:pt x="31" y="8"/>
                </a:lnTo>
                <a:lnTo>
                  <a:pt x="27" y="5"/>
                </a:lnTo>
                <a:lnTo>
                  <a:pt x="21" y="0"/>
                </a:lnTo>
                <a:lnTo>
                  <a:pt x="14" y="28"/>
                </a:lnTo>
                <a:lnTo>
                  <a:pt x="0" y="56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64520" y="3371760"/>
            <a:ext cx="30240" cy="42840"/>
          </a:xfrm>
          <a:custGeom>
            <a:avLst/>
            <a:gdLst/>
            <a:ahLst/>
            <a:rect l="l" t="t" r="r" b="b"/>
            <a:pathLst>
              <a:path w="19" h="27">
                <a:moveTo>
                  <a:pt x="0" y="13"/>
                </a:moveTo>
                <a:lnTo>
                  <a:pt x="1" y="7"/>
                </a:lnTo>
                <a:lnTo>
                  <a:pt x="5" y="2"/>
                </a:lnTo>
                <a:lnTo>
                  <a:pt x="8" y="0"/>
                </a:lnTo>
                <a:lnTo>
                  <a:pt x="14" y="2"/>
                </a:lnTo>
                <a:lnTo>
                  <a:pt x="16" y="7"/>
                </a:lnTo>
                <a:lnTo>
                  <a:pt x="18" y="13"/>
                </a:lnTo>
                <a:lnTo>
                  <a:pt x="16" y="20"/>
                </a:lnTo>
                <a:lnTo>
                  <a:pt x="14" y="24"/>
                </a:lnTo>
                <a:lnTo>
                  <a:pt x="8" y="26"/>
                </a:lnTo>
                <a:lnTo>
                  <a:pt x="5" y="24"/>
                </a:lnTo>
                <a:lnTo>
                  <a:pt x="1" y="20"/>
                </a:lnTo>
                <a:lnTo>
                  <a:pt x="0" y="13"/>
                </a:lnTo>
              </a:path>
            </a:pathLst>
          </a:custGeom>
          <a:solidFill>
            <a:srgbClr val="0e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55160" y="3371760"/>
            <a:ext cx="39600" cy="52560"/>
          </a:xfrm>
          <a:custGeom>
            <a:avLst/>
            <a:gdLst/>
            <a:ahLst/>
            <a:rect l="l" t="t" r="r" b="b"/>
            <a:pathLst>
              <a:path w="25" h="33">
                <a:moveTo>
                  <a:pt x="0" y="16"/>
                </a:moveTo>
                <a:lnTo>
                  <a:pt x="2" y="8"/>
                </a:lnTo>
                <a:lnTo>
                  <a:pt x="6" y="2"/>
                </a:lnTo>
                <a:lnTo>
                  <a:pt x="11" y="0"/>
                </a:lnTo>
                <a:lnTo>
                  <a:pt x="18" y="2"/>
                </a:lnTo>
                <a:lnTo>
                  <a:pt x="21" y="8"/>
                </a:lnTo>
                <a:lnTo>
                  <a:pt x="24" y="16"/>
                </a:lnTo>
                <a:lnTo>
                  <a:pt x="21" y="24"/>
                </a:lnTo>
                <a:lnTo>
                  <a:pt x="18" y="30"/>
                </a:lnTo>
                <a:lnTo>
                  <a:pt x="11" y="32"/>
                </a:lnTo>
                <a:lnTo>
                  <a:pt x="6" y="30"/>
                </a:lnTo>
                <a:lnTo>
                  <a:pt x="2" y="24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80480" y="3622680"/>
            <a:ext cx="147600" cy="141120"/>
          </a:xfrm>
          <a:custGeom>
            <a:avLst/>
            <a:gdLst/>
            <a:ahLst/>
            <a:rect l="l" t="t" r="r" b="b"/>
            <a:pathLst>
              <a:path w="93" h="89">
                <a:moveTo>
                  <a:pt x="42" y="13"/>
                </a:moveTo>
                <a:lnTo>
                  <a:pt x="58" y="14"/>
                </a:lnTo>
                <a:lnTo>
                  <a:pt x="61" y="3"/>
                </a:lnTo>
                <a:lnTo>
                  <a:pt x="65" y="0"/>
                </a:lnTo>
                <a:lnTo>
                  <a:pt x="69" y="0"/>
                </a:lnTo>
                <a:lnTo>
                  <a:pt x="72" y="6"/>
                </a:lnTo>
                <a:lnTo>
                  <a:pt x="73" y="13"/>
                </a:lnTo>
                <a:lnTo>
                  <a:pt x="77" y="8"/>
                </a:lnTo>
                <a:lnTo>
                  <a:pt x="82" y="7"/>
                </a:lnTo>
                <a:lnTo>
                  <a:pt x="83" y="9"/>
                </a:lnTo>
                <a:lnTo>
                  <a:pt x="86" y="13"/>
                </a:lnTo>
                <a:lnTo>
                  <a:pt x="86" y="17"/>
                </a:lnTo>
                <a:lnTo>
                  <a:pt x="85" y="58"/>
                </a:lnTo>
                <a:lnTo>
                  <a:pt x="87" y="58"/>
                </a:lnTo>
                <a:lnTo>
                  <a:pt x="90" y="62"/>
                </a:lnTo>
                <a:lnTo>
                  <a:pt x="92" y="67"/>
                </a:lnTo>
                <a:lnTo>
                  <a:pt x="92" y="73"/>
                </a:lnTo>
                <a:lnTo>
                  <a:pt x="89" y="78"/>
                </a:lnTo>
                <a:lnTo>
                  <a:pt x="87" y="80"/>
                </a:lnTo>
                <a:lnTo>
                  <a:pt x="87" y="81"/>
                </a:lnTo>
                <a:lnTo>
                  <a:pt x="58" y="88"/>
                </a:lnTo>
                <a:lnTo>
                  <a:pt x="20" y="63"/>
                </a:lnTo>
                <a:lnTo>
                  <a:pt x="18" y="61"/>
                </a:lnTo>
                <a:lnTo>
                  <a:pt x="11" y="51"/>
                </a:lnTo>
                <a:lnTo>
                  <a:pt x="7" y="41"/>
                </a:lnTo>
                <a:lnTo>
                  <a:pt x="3" y="30"/>
                </a:lnTo>
                <a:lnTo>
                  <a:pt x="1" y="19"/>
                </a:lnTo>
                <a:lnTo>
                  <a:pt x="0" y="11"/>
                </a:lnTo>
                <a:lnTo>
                  <a:pt x="42" y="13"/>
                </a:lnTo>
              </a:path>
            </a:pathLst>
          </a:custGeom>
          <a:solidFill>
            <a:srgbClr val="ffa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72560" y="362268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44" y="14"/>
                </a:moveTo>
                <a:lnTo>
                  <a:pt x="61" y="15"/>
                </a:lnTo>
                <a:lnTo>
                  <a:pt x="64" y="3"/>
                </a:lnTo>
                <a:lnTo>
                  <a:pt x="69" y="0"/>
                </a:lnTo>
                <a:lnTo>
                  <a:pt x="73" y="0"/>
                </a:lnTo>
                <a:lnTo>
                  <a:pt x="76" y="6"/>
                </a:lnTo>
                <a:lnTo>
                  <a:pt x="77" y="14"/>
                </a:lnTo>
                <a:lnTo>
                  <a:pt x="81" y="9"/>
                </a:lnTo>
                <a:lnTo>
                  <a:pt x="86" y="8"/>
                </a:lnTo>
                <a:lnTo>
                  <a:pt x="88" y="10"/>
                </a:lnTo>
                <a:lnTo>
                  <a:pt x="91" y="14"/>
                </a:lnTo>
                <a:lnTo>
                  <a:pt x="91" y="18"/>
                </a:lnTo>
                <a:lnTo>
                  <a:pt x="89" y="62"/>
                </a:lnTo>
                <a:lnTo>
                  <a:pt x="91" y="62"/>
                </a:lnTo>
                <a:lnTo>
                  <a:pt x="95" y="66"/>
                </a:lnTo>
                <a:lnTo>
                  <a:pt x="97" y="72"/>
                </a:lnTo>
                <a:lnTo>
                  <a:pt x="97" y="78"/>
                </a:lnTo>
                <a:lnTo>
                  <a:pt x="94" y="83"/>
                </a:lnTo>
                <a:lnTo>
                  <a:pt x="91" y="85"/>
                </a:lnTo>
                <a:lnTo>
                  <a:pt x="91" y="87"/>
                </a:lnTo>
                <a:lnTo>
                  <a:pt x="61" y="94"/>
                </a:lnTo>
                <a:lnTo>
                  <a:pt x="21" y="67"/>
                </a:lnTo>
                <a:lnTo>
                  <a:pt x="19" y="65"/>
                </a:lnTo>
                <a:lnTo>
                  <a:pt x="12" y="54"/>
                </a:lnTo>
                <a:lnTo>
                  <a:pt x="7" y="44"/>
                </a:lnTo>
                <a:lnTo>
                  <a:pt x="3" y="32"/>
                </a:lnTo>
                <a:lnTo>
                  <a:pt x="2" y="20"/>
                </a:lnTo>
                <a:lnTo>
                  <a:pt x="0" y="12"/>
                </a:lnTo>
                <a:lnTo>
                  <a:pt x="44" y="14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13600" y="3645000"/>
            <a:ext cx="57240" cy="44280"/>
          </a:xfrm>
          <a:custGeom>
            <a:avLst/>
            <a:gdLst/>
            <a:ahLst/>
            <a:rect l="l" t="t" r="r" b="b"/>
            <a:pathLst>
              <a:path w="36" h="28">
                <a:moveTo>
                  <a:pt x="18" y="0"/>
                </a:moveTo>
                <a:lnTo>
                  <a:pt x="0" y="15"/>
                </a:lnTo>
                <a:lnTo>
                  <a:pt x="25" y="27"/>
                </a:lnTo>
                <a:lnTo>
                  <a:pt x="35" y="1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01080" y="3651120"/>
            <a:ext cx="27000" cy="74880"/>
          </a:xfrm>
          <a:custGeom>
            <a:avLst/>
            <a:gdLst/>
            <a:ahLst/>
            <a:rect l="l" t="t" r="r" b="b"/>
            <a:pathLst>
              <a:path w="17" h="47">
                <a:moveTo>
                  <a:pt x="16" y="0"/>
                </a:moveTo>
                <a:lnTo>
                  <a:pt x="9" y="23"/>
                </a:lnTo>
                <a:lnTo>
                  <a:pt x="0" y="46"/>
                </a:lnTo>
                <a:lnTo>
                  <a:pt x="12" y="43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032320" y="3749760"/>
            <a:ext cx="112680" cy="1440"/>
          </a:xfrm>
          <a:prstGeom prst="line">
            <a:avLst/>
          </a:prstGeom>
          <a:ln w="12600">
            <a:solidFill>
              <a:srgbClr val="0e0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50320" y="3648240"/>
            <a:ext cx="46080" cy="90360"/>
          </a:xfrm>
          <a:custGeom>
            <a:avLst/>
            <a:gdLst/>
            <a:ahLst/>
            <a:rect l="l" t="t" r="r" b="b"/>
            <a:pathLst>
              <a:path w="29" h="57">
                <a:moveTo>
                  <a:pt x="28" y="0"/>
                </a:moveTo>
                <a:lnTo>
                  <a:pt x="25" y="16"/>
                </a:lnTo>
                <a:lnTo>
                  <a:pt x="17" y="42"/>
                </a:lnTo>
                <a:lnTo>
                  <a:pt x="0" y="56"/>
                </a:lnTo>
              </a:path>
            </a:pathLst>
          </a:custGeom>
          <a:noFill/>
          <a:ln cap="rnd" w="12600">
            <a:solidFill>
              <a:srgbClr val="0e0d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53360" y="2263680"/>
            <a:ext cx="1800" cy="1800"/>
          </a:xfrm>
          <a:prstGeom prst="line">
            <a:avLst/>
          </a:prstGeom>
          <a:ln w="12600">
            <a:solidFill>
              <a:srgbClr val="0e0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309600"/>
            <a:ext cx="9134640" cy="6188040"/>
            <a:chOff x="0" y="309600"/>
            <a:chExt cx="9134640" cy="6188040"/>
          </a:xfrm>
        </p:grpSpPr>
        <p:grpSp>
          <p:nvGrpSpPr>
            <p:cNvPr id="72" name=""/>
            <p:cNvGrpSpPr/>
            <p:nvPr/>
          </p:nvGrpSpPr>
          <p:grpSpPr>
            <a:xfrm>
              <a:off x="0" y="309600"/>
              <a:ext cx="966960" cy="457200"/>
              <a:chOff x="0" y="309600"/>
              <a:chExt cx="966960" cy="45720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30960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97000" y="30960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4960" y="30960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5400" y="30960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55720" y="30960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38080" y="6181560"/>
              <a:ext cx="8296560" cy="316080"/>
              <a:chOff x="838080" y="6181560"/>
              <a:chExt cx="8296560" cy="316080"/>
            </a:xfrm>
          </p:grpSpPr>
          <p:sp>
            <p:nvSpPr>
              <p:cNvPr id="79" name=""/>
              <p:cNvSpPr/>
              <p:nvPr/>
            </p:nvSpPr>
            <p:spPr>
              <a:xfrm>
                <a:off x="838080" y="641988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65080" y="630072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2080" y="618156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1371600" y="380880"/>
            <a:ext cx="6477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c0128"/>
                </a:solidFill>
                <a:latin typeface="Book Antiqua"/>
              </a:rPr>
              <a:t>PLAN DE LA RE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8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rganisation générale ACERS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tions de qualité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BR : principales caractéristiques techniqu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hier des charges des appellations IB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ôle du GTV et des vétérinair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clusion avec inscription des vétérinair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799400" y="6095880"/>
            <a:ext cx="1268280" cy="49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7264440" y="3886200"/>
          <a:ext cx="17143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4440" y="3886200"/>
                    <a:ext cx="1714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1454040" y="6254640"/>
            <a:ext cx="1816200" cy="520920"/>
          </a:xfrm>
          <a:prstGeom prst="hexagon">
            <a:avLst>
              <a:gd name="adj" fmla="val 86921"/>
              <a:gd name="vf" fmla="val 11547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. Certif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5240" y="171360"/>
            <a:ext cx="70120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480" y="1479600"/>
            <a:ext cx="1327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64080" y="1378080"/>
            <a:ext cx="1663560" cy="444240"/>
          </a:xfrm>
          <a:prstGeom prst="rect">
            <a:avLst/>
          </a:prstGeom>
          <a:solidFill>
            <a:srgbClr val="a0a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A. ou A.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4080" y="2292480"/>
            <a:ext cx="1587240" cy="672840"/>
          </a:xfrm>
          <a:prstGeom prst="octagon">
            <a:avLst>
              <a:gd name="adj" fmla="val 2925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e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35480" y="3892680"/>
            <a:ext cx="2044440" cy="672840"/>
          </a:xfrm>
          <a:prstGeom prst="hexagon">
            <a:avLst>
              <a:gd name="adj" fmla="val 41076"/>
              <a:gd name="vf" fmla="val 11547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'opportun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21280" y="3511440"/>
            <a:ext cx="672840" cy="3682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82640" y="4349880"/>
            <a:ext cx="1435320" cy="59688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5160" y="4349880"/>
            <a:ext cx="1587600" cy="59688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t moti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76240" y="1676520"/>
            <a:ext cx="1487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rot="16200000">
            <a:off x="4240440" y="1879560"/>
            <a:ext cx="432000" cy="355320"/>
          </a:xfrm>
          <a:prstGeom prst="rightArrow">
            <a:avLst>
              <a:gd name="adj1" fmla="val 75000"/>
              <a:gd name="adj2" fmla="val 6087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rot="16200000">
            <a:off x="4240800" y="3098880"/>
            <a:ext cx="431640" cy="355320"/>
          </a:xfrm>
          <a:prstGeom prst="rightArrow">
            <a:avLst>
              <a:gd name="adj1" fmla="val 75000"/>
              <a:gd name="adj2" fmla="val 6082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37960" y="2263680"/>
            <a:ext cx="1668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sul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90720" y="2562120"/>
            <a:ext cx="81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0680" y="2263680"/>
            <a:ext cx="1528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tif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écono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417760"/>
            <a:ext cx="0" cy="58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499000" y="2355840"/>
            <a:ext cx="889200" cy="603360"/>
            <a:chOff x="5499000" y="2355840"/>
            <a:chExt cx="889200" cy="603360"/>
          </a:xfrm>
        </p:grpSpPr>
        <p:sp>
          <p:nvSpPr>
            <p:cNvPr id="393" name=""/>
            <p:cNvSpPr/>
            <p:nvPr/>
          </p:nvSpPr>
          <p:spPr>
            <a:xfrm flipV="1">
              <a:off x="5499000" y="2355840"/>
              <a:ext cx="884160" cy="324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0160" y="2743200"/>
              <a:ext cx="878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10160" y="2843280"/>
              <a:ext cx="878040" cy="115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386080" y="2743200"/>
            <a:ext cx="877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1480" y="5029200"/>
            <a:ext cx="2330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et recomma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01760" y="5340240"/>
            <a:ext cx="2120760" cy="368280"/>
          </a:xfrm>
          <a:prstGeom prst="octagon">
            <a:avLst>
              <a:gd name="adj" fmla="val 29250"/>
            </a:avLst>
          </a:prstGeom>
          <a:solidFill>
            <a:srgbClr val="a0a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oupe d'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38000" y="5410080"/>
            <a:ext cx="1496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ul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517920" y="5175360"/>
            <a:ext cx="736560" cy="527040"/>
            <a:chOff x="3517920" y="5175360"/>
            <a:chExt cx="736560" cy="527040"/>
          </a:xfrm>
        </p:grpSpPr>
        <p:sp>
          <p:nvSpPr>
            <p:cNvPr id="401" name=""/>
            <p:cNvSpPr/>
            <p:nvPr/>
          </p:nvSpPr>
          <p:spPr>
            <a:xfrm flipV="1">
              <a:off x="3517920" y="5175360"/>
              <a:ext cx="731880" cy="247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29080" y="5524560"/>
              <a:ext cx="725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29080" y="5624640"/>
              <a:ext cx="725400" cy="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52280" y="5018040"/>
            <a:ext cx="1155960" cy="1319400"/>
            <a:chOff x="152280" y="5018040"/>
            <a:chExt cx="1155960" cy="1319400"/>
          </a:xfrm>
        </p:grpSpPr>
        <p:graphicFrame>
          <p:nvGraphicFramePr>
            <p:cNvPr id="405" name=""/>
            <p:cNvGraphicFramePr/>
            <p:nvPr/>
          </p:nvGraphicFramePr>
          <p:xfrm>
            <a:off x="152280" y="5018040"/>
            <a:ext cx="1155960" cy="13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5018040"/>
                      <a:ext cx="1155960" cy="13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7" name=""/>
            <p:cNvSpPr/>
            <p:nvPr/>
          </p:nvSpPr>
          <p:spPr>
            <a:xfrm>
              <a:off x="185760" y="5192640"/>
              <a:ext cx="9586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ah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H="1" rot="16200000">
            <a:off x="2221560" y="4965840"/>
            <a:ext cx="355320" cy="355320"/>
          </a:xfrm>
          <a:prstGeom prst="rightArrow">
            <a:avLst>
              <a:gd name="adj1" fmla="val 75000"/>
              <a:gd name="adj2" fmla="val 5006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rot="16200000">
            <a:off x="2183040" y="5765760"/>
            <a:ext cx="432000" cy="355320"/>
          </a:xfrm>
          <a:prstGeom prst="rightArrow">
            <a:avLst>
              <a:gd name="adj1" fmla="val 75000"/>
              <a:gd name="adj2" fmla="val 6087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56640" y="4343400"/>
            <a:ext cx="6213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0560" y="4343400"/>
            <a:ext cx="62172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489"/>
                </a:moveTo>
                <a:arcTo wR="10800" hR="10800" stAng="-10700862" swAng="5283322"/>
                <a:lnTo>
                  <a:pt x="10800" y="10800"/>
                </a:lnTo>
                <a:close/>
              </a:path>
              <a:path fill="none" w="21600" h="21600">
                <a:moveTo>
                  <a:pt x="4" y="10489"/>
                </a:moveTo>
                <a:arcTo wR="10800" hR="10800" stAng="-10700862" swAng="5283322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5720" y="5162400"/>
            <a:ext cx="128232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3" y="0"/>
                </a:moveTo>
                <a:arcTo wR="10800" hR="10800" stAng="-5408509" swAng="5555070"/>
                <a:lnTo>
                  <a:pt x="10800" y="10800"/>
                </a:lnTo>
                <a:close/>
              </a:path>
              <a:path fill="none" w="21600" h="21600">
                <a:moveTo>
                  <a:pt x="10773" y="0"/>
                </a:moveTo>
                <a:arcTo wR="10800" hR="10800" stAng="-5408509" swAng="555507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13320" y="0"/>
            <a:ext cx="7028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Times New Roman"/>
              </a:rPr>
              <a:t>PROCEDURE POUR CERTIFI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3320" y="457200"/>
            <a:ext cx="3371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Times New Roman"/>
              </a:rPr>
              <a:t>UNE MALAD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 rot="20640000">
            <a:off x="1141920" y="3343320"/>
            <a:ext cx="76917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cbcbcb"/>
                </a:solidFill>
                <a:latin typeface="DomCasual BT"/>
              </a:rPr>
              <a:t>A.CER.S.A.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30492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6840" y="1936800"/>
            <a:ext cx="869940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L'Association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- Certifie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- Lieu de proposition ..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DomCasual BT"/>
              </a:rPr>
              <a:t>...et de réflex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NOTIONS  DE  QUALIT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819520" y="1752480"/>
          <a:ext cx="328140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2814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3352680" y="2286000"/>
            <a:ext cx="214812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P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RTI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NF X 50 120</a:t>
            </a:r>
            <a:br>
              <a:rPr sz="3600"/>
            </a:b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LA QUALIT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semble des propriétés et des caractéristiques d’un produit ou d’un service qui lui confère l’aptitude à satisfaire des besoins exprimés ou implici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emple des besoins pour un service : fiabilité, rapidité, confidentialité, coût approprié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ise en œuvre des notions et pratique de la qualité :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organiser l’assurance qualité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NF X 50 121 : EN 2900</a:t>
            </a:r>
            <a:br>
              <a:rPr sz="3600"/>
            </a:b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L’ASSURANCE QUALITE</a:t>
            </a:r>
            <a:br>
              <a:rPr sz="3600"/>
            </a:b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semble des actions préétablies et systématiques nécessaires pour donner la </a:t>
            </a: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confiance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ppropriée en ce qu’un produit ou service satisfera aux exigences de la qualité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J.L. RIGAL :  La confiance c’est l’art d’être fiable ensemble  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0" y="309600"/>
            <a:ext cx="9134640" cy="6188040"/>
            <a:chOff x="0" y="309600"/>
            <a:chExt cx="9134640" cy="6188040"/>
          </a:xfrm>
        </p:grpSpPr>
        <p:grpSp>
          <p:nvGrpSpPr>
            <p:cNvPr id="427" name=""/>
            <p:cNvGrpSpPr/>
            <p:nvPr/>
          </p:nvGrpSpPr>
          <p:grpSpPr>
            <a:xfrm>
              <a:off x="0" y="309600"/>
              <a:ext cx="966960" cy="457200"/>
              <a:chOff x="0" y="309600"/>
              <a:chExt cx="966960" cy="45720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309600"/>
                <a:ext cx="320760" cy="457200"/>
              </a:xfrm>
              <a:custGeom>
                <a:avLst/>
                <a:gdLst/>
                <a:ahLst/>
                <a:rect l="l" t="t" r="r" b="b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7000" y="309600"/>
                <a:ext cx="264960" cy="457200"/>
              </a:xfrm>
              <a:custGeom>
                <a:avLst/>
                <a:gdLst/>
                <a:ahLst/>
                <a:rect l="l" t="t" r="r" b="b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34960" y="309600"/>
                <a:ext cx="220680" cy="457200"/>
              </a:xfrm>
              <a:custGeom>
                <a:avLst/>
                <a:gdLst/>
                <a:ahLst/>
                <a:rect l="l" t="t" r="r" b="b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5400" y="309600"/>
                <a:ext cx="163440" cy="457200"/>
              </a:xfrm>
              <a:custGeom>
                <a:avLst/>
                <a:gdLst/>
                <a:ahLst/>
                <a:rect l="l" t="t" r="r" b="b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55720" y="309600"/>
                <a:ext cx="111240" cy="457200"/>
              </a:xfrm>
              <a:custGeom>
                <a:avLst/>
                <a:gdLst/>
                <a:ahLst/>
                <a:rect l="l" t="t" r="r" b="b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838080" y="6181560"/>
              <a:ext cx="8296560" cy="316080"/>
              <a:chOff x="838080" y="6181560"/>
              <a:chExt cx="8296560" cy="316080"/>
            </a:xfrm>
          </p:grpSpPr>
          <p:sp>
            <p:nvSpPr>
              <p:cNvPr id="434" name=""/>
              <p:cNvSpPr/>
              <p:nvPr/>
            </p:nvSpPr>
            <p:spPr>
              <a:xfrm>
                <a:off x="838080" y="6419880"/>
                <a:ext cx="8296560" cy="77760"/>
              </a:xfrm>
              <a:custGeom>
                <a:avLst/>
                <a:gdLst/>
                <a:ahLst/>
                <a:rect l="l" t="t" r="r" b="b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65080" y="6300720"/>
                <a:ext cx="8269560" cy="77760"/>
              </a:xfrm>
              <a:custGeom>
                <a:avLst/>
                <a:gdLst/>
                <a:ahLst/>
                <a:rect l="l" t="t" r="r" b="b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92080" y="6181560"/>
                <a:ext cx="8242560" cy="81000"/>
              </a:xfrm>
              <a:custGeom>
                <a:avLst/>
                <a:gdLst/>
                <a:ahLst/>
                <a:rect l="l" t="t" r="r" b="b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LE SYSTEME QUALIT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15600" y="3429000"/>
            <a:ext cx="8064360" cy="182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UNE PROCEDURE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nière spécifique d’accomplir une activité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11430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nsemble des structures organisationnelles, des responsabilités, des ressources pour mettre en œuvre la gestion de la qualité</a:t>
            </a:r>
            <a:r>
              <a:rPr b="1" lang="en-US" sz="4400" spc="-1" strike="noStrike">
                <a:solidFill>
                  <a:srgbClr val="fc0128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5360" y="5305320"/>
            <a:ext cx="782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asser de la tradition de l’oral à l’écr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QUALITE ET ASSURANCE QUALIT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838080" y="1752480"/>
          <a:ext cx="7861320" cy="36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86132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Book Antiqua"/>
              </a:rPr>
              <a:t>ROUE DE DEM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114ffb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Organiser 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nception et rédaction docu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114ffb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Faire: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pplication quotidienn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114ffb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Vérifier :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ntrôle pertinence efficacité et adaptation systè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114ffb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éagir :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i non conformité, corrig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28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Roue de Dem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3200400"/>
            <a:ext cx="1904760" cy="1600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67520" y="3430440"/>
            <a:ext cx="1106280" cy="733680"/>
          </a:xfrm>
          <a:custGeom>
            <a:avLst/>
            <a:gdLst/>
            <a:ahLst/>
            <a:rect l="l" t="t" r="r" b="b"/>
            <a:pathLst>
              <a:path w="697" h="462">
                <a:moveTo>
                  <a:pt x="461" y="306"/>
                </a:moveTo>
                <a:lnTo>
                  <a:pt x="447" y="247"/>
                </a:lnTo>
                <a:lnTo>
                  <a:pt x="417" y="201"/>
                </a:lnTo>
                <a:lnTo>
                  <a:pt x="395" y="180"/>
                </a:lnTo>
                <a:lnTo>
                  <a:pt x="366" y="167"/>
                </a:lnTo>
                <a:lnTo>
                  <a:pt x="337" y="159"/>
                </a:lnTo>
                <a:lnTo>
                  <a:pt x="308" y="155"/>
                </a:lnTo>
                <a:lnTo>
                  <a:pt x="278" y="159"/>
                </a:lnTo>
                <a:lnTo>
                  <a:pt x="249" y="167"/>
                </a:lnTo>
                <a:lnTo>
                  <a:pt x="227" y="180"/>
                </a:lnTo>
                <a:lnTo>
                  <a:pt x="198" y="201"/>
                </a:lnTo>
                <a:lnTo>
                  <a:pt x="168" y="247"/>
                </a:lnTo>
                <a:lnTo>
                  <a:pt x="154" y="306"/>
                </a:lnTo>
                <a:lnTo>
                  <a:pt x="0" y="306"/>
                </a:lnTo>
                <a:lnTo>
                  <a:pt x="7" y="243"/>
                </a:lnTo>
                <a:lnTo>
                  <a:pt x="22" y="188"/>
                </a:lnTo>
                <a:lnTo>
                  <a:pt x="51" y="134"/>
                </a:lnTo>
                <a:lnTo>
                  <a:pt x="88" y="92"/>
                </a:lnTo>
                <a:lnTo>
                  <a:pt x="139" y="54"/>
                </a:lnTo>
                <a:lnTo>
                  <a:pt x="190" y="25"/>
                </a:lnTo>
                <a:lnTo>
                  <a:pt x="249" y="8"/>
                </a:lnTo>
                <a:lnTo>
                  <a:pt x="308" y="0"/>
                </a:lnTo>
                <a:lnTo>
                  <a:pt x="373" y="8"/>
                </a:lnTo>
                <a:lnTo>
                  <a:pt x="432" y="25"/>
                </a:lnTo>
                <a:lnTo>
                  <a:pt x="483" y="54"/>
                </a:lnTo>
                <a:lnTo>
                  <a:pt x="527" y="92"/>
                </a:lnTo>
                <a:lnTo>
                  <a:pt x="564" y="134"/>
                </a:lnTo>
                <a:lnTo>
                  <a:pt x="593" y="188"/>
                </a:lnTo>
                <a:lnTo>
                  <a:pt x="608" y="243"/>
                </a:lnTo>
                <a:lnTo>
                  <a:pt x="615" y="306"/>
                </a:lnTo>
                <a:lnTo>
                  <a:pt x="696" y="306"/>
                </a:lnTo>
                <a:lnTo>
                  <a:pt x="542" y="461"/>
                </a:lnTo>
                <a:lnTo>
                  <a:pt x="388" y="306"/>
                </a:lnTo>
                <a:lnTo>
                  <a:pt x="461" y="306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92760" y="2735280"/>
            <a:ext cx="240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Organ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19880" y="3659040"/>
            <a:ext cx="127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Réa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43960" y="3659040"/>
            <a:ext cx="103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F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11400" y="4878360"/>
            <a:ext cx="1428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Vér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518080" y="4241880"/>
            <a:ext cx="2685960" cy="1265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22760" y="5486400"/>
            <a:ext cx="2605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45120" y="4673520"/>
            <a:ext cx="711360" cy="177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19920" y="4673520"/>
            <a:ext cx="0" cy="558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2666880"/>
            <a:ext cx="1441440" cy="451080"/>
          </a:xfrm>
          <a:prstGeom prst="rightArrow">
            <a:avLst>
              <a:gd name="adj1" fmla="val 50000"/>
              <a:gd name="adj2" fmla="val 80095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08160" y="2287440"/>
            <a:ext cx="1420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Book Antiqu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30560" y="2897280"/>
            <a:ext cx="1194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Book Antiqua"/>
              </a:rPr>
              <a:t>to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69360" y="5554800"/>
            <a:ext cx="257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Objectif : x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2106720"/>
            <a:ext cx="0" cy="3646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0400" y="4191120"/>
            <a:ext cx="172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89680" y="4495680"/>
            <a:ext cx="1190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27640" y="4870440"/>
            <a:ext cx="546120" cy="165240"/>
          </a:xfrm>
          <a:prstGeom prst="rightArrow">
            <a:avLst>
              <a:gd name="adj1" fmla="val 50000"/>
              <a:gd name="adj2" fmla="val 828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05560" y="4495680"/>
            <a:ext cx="359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53280" y="4343400"/>
            <a:ext cx="77760" cy="1068480"/>
          </a:xfrm>
          <a:custGeom>
            <a:avLst/>
            <a:gdLst/>
            <a:ahLst/>
            <a:rect l="l" t="t" r="r" b="b"/>
            <a:pathLst>
              <a:path w="49" h="673">
                <a:moveTo>
                  <a:pt x="24" y="0"/>
                </a:moveTo>
                <a:lnTo>
                  <a:pt x="48" y="134"/>
                </a:lnTo>
                <a:lnTo>
                  <a:pt x="36" y="134"/>
                </a:lnTo>
                <a:lnTo>
                  <a:pt x="36" y="538"/>
                </a:lnTo>
                <a:lnTo>
                  <a:pt x="48" y="538"/>
                </a:lnTo>
                <a:lnTo>
                  <a:pt x="24" y="672"/>
                </a:lnTo>
                <a:lnTo>
                  <a:pt x="0" y="538"/>
                </a:lnTo>
                <a:lnTo>
                  <a:pt x="12" y="538"/>
                </a:lnTo>
                <a:lnTo>
                  <a:pt x="12" y="134"/>
                </a:lnTo>
                <a:lnTo>
                  <a:pt x="0" y="134"/>
                </a:lnTo>
                <a:lnTo>
                  <a:pt x="2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41360" y="1128600"/>
            <a:ext cx="856656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Le dispositif d’appe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des maladies non réglementé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ORGANISATION GENE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de l’ACE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36920" y="3970440"/>
            <a:ext cx="2081160" cy="20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92280" y="1073160"/>
            <a:ext cx="520560" cy="444600"/>
          </a:xfrm>
          <a:prstGeom prst="rightArrow">
            <a:avLst>
              <a:gd name="adj1" fmla="val 75000"/>
              <a:gd name="adj2" fmla="val 58656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5760" y="1038240"/>
            <a:ext cx="484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QUALITES DEMAND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0240" y="1738440"/>
            <a:ext cx="399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on niveau de reconna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5840" y="3262320"/>
            <a:ext cx="29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ystème opérat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6560" y="2500200"/>
            <a:ext cx="194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ût maîtr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2280" y="4349880"/>
            <a:ext cx="520560" cy="444240"/>
          </a:xfrm>
          <a:prstGeom prst="rightArrow">
            <a:avLst>
              <a:gd name="adj1" fmla="val 75000"/>
              <a:gd name="adj2" fmla="val 58703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51080" y="4314960"/>
            <a:ext cx="473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A propos de la cer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6600" y="4938840"/>
            <a:ext cx="6437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yen pas objectif en s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se rapprocher de la certification (Norme 450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52320" y="154080"/>
            <a:ext cx="6010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Times New Roman"/>
              </a:rPr>
              <a:t>ELEMENTS DE BASE D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Times New Roman"/>
              </a:rPr>
              <a:t>SYSTEME D’APP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85840" y="4600440"/>
            <a:ext cx="254160" cy="5155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5680" y="4573440"/>
            <a:ext cx="67784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Times New Roman"/>
              </a:rPr>
              <a:t>GE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114ffb"/>
                </a:solidFill>
                <a:latin typeface="Times New Roman"/>
              </a:rPr>
              <a:t>Schéma</a:t>
            </a:r>
            <a:r>
              <a:rPr b="1" lang="en-US" sz="2800" spc="-1" strike="noStrike">
                <a:solidFill>
                  <a:srgbClr val="114ffb"/>
                </a:solidFill>
                <a:latin typeface="Times New Roman"/>
              </a:rPr>
              <a:t> Territorial de Certif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78200" y="5667480"/>
            <a:ext cx="254160" cy="5155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62680" y="5640480"/>
            <a:ext cx="3774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Times New Roman"/>
              </a:rPr>
              <a:t>CONTROLE (DS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65280" y="1373040"/>
            <a:ext cx="7920000" cy="3173400"/>
            <a:chOff x="665280" y="1373040"/>
            <a:chExt cx="7920000" cy="3173400"/>
          </a:xfrm>
        </p:grpSpPr>
        <p:sp>
          <p:nvSpPr>
            <p:cNvPr id="101" name=""/>
            <p:cNvSpPr/>
            <p:nvPr/>
          </p:nvSpPr>
          <p:spPr>
            <a:xfrm>
              <a:off x="665280" y="1407960"/>
              <a:ext cx="295200" cy="45468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11400" y="1373040"/>
              <a:ext cx="5622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EFINITION (Partenaria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36520" y="1932120"/>
              <a:ext cx="7448760" cy="2614320"/>
              <a:chOff x="1136520" y="1932120"/>
              <a:chExt cx="7448760" cy="261432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136520" y="1932120"/>
                <a:ext cx="7448760" cy="2614320"/>
                <a:chOff x="1136520" y="1932120"/>
                <a:chExt cx="7448760" cy="26143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193080" y="2668680"/>
                  <a:ext cx="671040" cy="37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902560" y="2987640"/>
                  <a:ext cx="1817280" cy="37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dministr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293880" y="3368520"/>
                  <a:ext cx="698400" cy="37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T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871960" y="3735360"/>
                  <a:ext cx="163584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partenaire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cerné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758920" y="2135160"/>
                  <a:ext cx="2241000" cy="43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 algn="ctr"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Comité nation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1136520" y="1932120"/>
                  <a:ext cx="7448760" cy="2614320"/>
                  <a:chOff x="1136520" y="1932120"/>
                  <a:chExt cx="7448760" cy="26143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1136520" y="1932120"/>
                    <a:ext cx="7448760" cy="2614320"/>
                  </a:xfrm>
                  <a:prstGeom prst="rect">
                    <a:avLst/>
                  </a:prstGeom>
                  <a:noFill/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>
                    <a:off x="5076360" y="2039760"/>
                    <a:ext cx="297000" cy="24051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1247760" y="2468520"/>
                  <a:ext cx="3184560" cy="1960200"/>
                  <a:chOff x="1247760" y="2468520"/>
                  <a:chExt cx="3184560" cy="1960200"/>
                </a:xfrm>
              </p:grpSpPr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1343160" y="4081320"/>
                    <a:ext cx="991080" cy="347400"/>
                    <a:chOff x="1343160" y="4081320"/>
                    <a:chExt cx="991080" cy="34740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1704240" y="4081320"/>
                      <a:ext cx="630000" cy="347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73080" rIns="73080" tIns="36360" bIns="36360" anchor="t">
                      <a:spAutoFit/>
                    </a:bodyPr>
                    <a:p>
                      <a:pPr>
                        <a:tabLst>
                          <a:tab algn="l" pos="0"/>
                          <a:tab algn="l" pos="585720"/>
                          <a:tab algn="l" pos="1171440"/>
                          <a:tab algn="l" pos="1757520"/>
                          <a:tab algn="l" pos="2343240"/>
                          <a:tab algn="l" pos="2928960"/>
                          <a:tab algn="l" pos="3514680"/>
                          <a:tab algn="l" pos="4100400"/>
                          <a:tab algn="l" pos="4686480"/>
                          <a:tab algn="l" pos="5272200"/>
                          <a:tab algn="l" pos="5857920"/>
                          <a:tab algn="l" pos="6443640"/>
                          <a:tab algn="l" pos="7029360"/>
                          <a:tab algn="l" pos="7615080"/>
                          <a:tab algn="l" pos="8201160"/>
                          <a:tab algn="l" pos="8786880"/>
                          <a:tab algn="l" pos="9372600"/>
                          <a:tab algn="l" pos="9958320"/>
                          <a:tab algn="l" pos="105440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i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343160" y="4145040"/>
                      <a:ext cx="255600" cy="169920"/>
                    </a:xfrm>
                    <a:prstGeom prst="octagon">
                      <a:avLst>
                        <a:gd name="adj" fmla="val 29259"/>
                      </a:avLst>
                    </a:prstGeom>
                    <a:solidFill>
                      <a:srgbClr val="fc0128"/>
                    </a:solidFill>
                    <a:ln w="12600">
                      <a:solidFill>
                        <a:srgbClr val="fc0128"/>
                      </a:solidFill>
                      <a:miter/>
                    </a:ln>
                    <a:effectLst>
                      <a:outerShdw dist="107932" dir="2700000" blurRad="0" rotWithShape="0">
                        <a:srgbClr val="114ff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1247760" y="2468520"/>
                    <a:ext cx="3184560" cy="1471320"/>
                    <a:chOff x="1247760" y="2468520"/>
                    <a:chExt cx="3184560" cy="1471320"/>
                  </a:xfrm>
                </p:grpSpPr>
                <p:grpSp>
                  <p:nvGrpSpPr>
                    <p:cNvPr id="118" name=""/>
                    <p:cNvGrpSpPr/>
                    <p:nvPr/>
                  </p:nvGrpSpPr>
                  <p:grpSpPr>
                    <a:xfrm>
                      <a:off x="1568880" y="2468520"/>
                      <a:ext cx="2863440" cy="1471320"/>
                      <a:chOff x="1568880" y="2468520"/>
                      <a:chExt cx="2863440" cy="1471320"/>
                    </a:xfrm>
                  </p:grpSpPr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1638720" y="2841480"/>
                        <a:ext cx="2273040" cy="347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73080" rIns="73080" tIns="36360" bIns="3636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585720"/>
                            <a:tab algn="l" pos="1171440"/>
                            <a:tab algn="l" pos="1757520"/>
                            <a:tab algn="l" pos="2343240"/>
                            <a:tab algn="l" pos="2928960"/>
                            <a:tab algn="l" pos="3514680"/>
                            <a:tab algn="l" pos="4100400"/>
                            <a:tab algn="l" pos="4686480"/>
                            <a:tab algn="l" pos="5272200"/>
                            <a:tab algn="l" pos="5857920"/>
                            <a:tab algn="l" pos="6443640"/>
                            <a:tab algn="l" pos="7029360"/>
                            <a:tab algn="l" pos="7615080"/>
                            <a:tab algn="l" pos="8201160"/>
                            <a:tab algn="l" pos="8786880"/>
                            <a:tab algn="l" pos="9372600"/>
                            <a:tab algn="l" pos="9958320"/>
                            <a:tab algn="l" pos="1054404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- protocoles techniques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1638360" y="3216240"/>
                        <a:ext cx="2793960" cy="347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73080" rIns="73080" tIns="36360" bIns="3636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585720"/>
                            <a:tab algn="l" pos="1171440"/>
                            <a:tab algn="l" pos="1757520"/>
                            <a:tab algn="l" pos="2343240"/>
                            <a:tab algn="l" pos="2928960"/>
                            <a:tab algn="l" pos="3514680"/>
                            <a:tab algn="l" pos="4100400"/>
                            <a:tab algn="l" pos="4686480"/>
                            <a:tab algn="l" pos="5272200"/>
                            <a:tab algn="l" pos="5857920"/>
                            <a:tab algn="l" pos="6443640"/>
                            <a:tab algn="l" pos="7029360"/>
                            <a:tab algn="l" pos="7615080"/>
                            <a:tab algn="l" pos="8201160"/>
                            <a:tab algn="l" pos="8786880"/>
                            <a:tab algn="l" pos="9372600"/>
                            <a:tab algn="l" pos="9958320"/>
                            <a:tab algn="l" pos="1054404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- protocoles organisationnels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1638000" y="3592440"/>
                        <a:ext cx="2318760" cy="347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73080" rIns="73080" tIns="36360" bIns="3636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585720"/>
                            <a:tab algn="l" pos="1171440"/>
                            <a:tab algn="l" pos="1757520"/>
                            <a:tab algn="l" pos="2343240"/>
                            <a:tab algn="l" pos="2928960"/>
                            <a:tab algn="l" pos="3514680"/>
                            <a:tab algn="l" pos="4100400"/>
                            <a:tab algn="l" pos="4686480"/>
                            <a:tab algn="l" pos="5272200"/>
                            <a:tab algn="l" pos="5857920"/>
                            <a:tab algn="l" pos="6443640"/>
                            <a:tab algn="l" pos="7029360"/>
                            <a:tab algn="l" pos="7615080"/>
                            <a:tab algn="l" pos="8201160"/>
                            <a:tab algn="l" pos="8786880"/>
                            <a:tab algn="l" pos="9372600"/>
                            <a:tab algn="l" pos="9958320"/>
                            <a:tab algn="l" pos="1054404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- protocoles de contrôl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1568880" y="2468520"/>
                        <a:ext cx="1859760" cy="347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73080" rIns="73080" tIns="36360" bIns="3636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585720"/>
                            <a:tab algn="l" pos="1171440"/>
                            <a:tab algn="l" pos="1757520"/>
                            <a:tab algn="l" pos="2343240"/>
                            <a:tab algn="l" pos="2928960"/>
                            <a:tab algn="l" pos="3514680"/>
                            <a:tab algn="l" pos="4100400"/>
                            <a:tab algn="l" pos="4686480"/>
                            <a:tab algn="l" pos="5272200"/>
                            <a:tab algn="l" pos="5857920"/>
                            <a:tab algn="l" pos="6443640"/>
                            <a:tab algn="l" pos="7029360"/>
                            <a:tab algn="l" pos="7615080"/>
                            <a:tab algn="l" pos="8201160"/>
                            <a:tab algn="l" pos="8786880"/>
                            <a:tab algn="l" pos="9372600"/>
                            <a:tab algn="l" pos="9958320"/>
                            <a:tab algn="l" pos="1054404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tablissement des: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1247760" y="2544840"/>
                      <a:ext cx="255600" cy="169920"/>
                    </a:xfrm>
                    <a:prstGeom prst="octagon">
                      <a:avLst>
                        <a:gd name="adj" fmla="val 29259"/>
                      </a:avLst>
                    </a:prstGeom>
                    <a:solidFill>
                      <a:srgbClr val="fc0128"/>
                    </a:solidFill>
                    <a:ln w="12600">
                      <a:solidFill>
                        <a:srgbClr val="fc0128"/>
                      </a:solidFill>
                      <a:miter/>
                    </a:ln>
                    <a:effectLst>
                      <a:outerShdw dist="107932" dir="2700000" blurRad="0" rotWithShape="0">
                        <a:srgbClr val="114ff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4" name=""/>
              <p:cNvGrpSpPr/>
              <p:nvPr/>
            </p:nvGrpSpPr>
            <p:grpSpPr>
              <a:xfrm>
                <a:off x="1247760" y="2100240"/>
                <a:ext cx="2301480" cy="347400"/>
                <a:chOff x="1247760" y="2100240"/>
                <a:chExt cx="2301480" cy="347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607040" y="2100240"/>
                  <a:ext cx="194220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oix des malad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247760" y="2163600"/>
                  <a:ext cx="255600" cy="169920"/>
                </a:xfrm>
                <a:prstGeom prst="octagon">
                  <a:avLst>
                    <a:gd name="adj" fmla="val 29259"/>
                  </a:avLst>
                </a:prstGeom>
                <a:solidFill>
                  <a:srgbClr val="fc0128"/>
                </a:solidFill>
                <a:ln w="12600">
                  <a:solidFill>
                    <a:srgbClr val="fc0128"/>
                  </a:solidFill>
                  <a:miter/>
                </a:ln>
                <a:effectLst>
                  <a:outerShdw dist="107932" dir="2700000" blurRad="0" rotWithShape="0">
                    <a:srgbClr val="114ff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09600" y="4086360"/>
            <a:ext cx="7213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4ffb"/>
                </a:solidFill>
                <a:latin typeface="Times New Roman"/>
              </a:rPr>
              <a:t>CREE LE 28 02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4ffb"/>
                </a:solidFill>
                <a:latin typeface="Times New Roman"/>
              </a:rPr>
              <a:t>ASSEMBLEE CONSTITUTIVE LE 18 04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971800" y="685800"/>
          <a:ext cx="320976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685800"/>
                    <a:ext cx="32097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7640" y="306360"/>
            <a:ext cx="7108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Times New Roman"/>
              </a:rPr>
              <a:t>APPLICATION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c0128"/>
                </a:solidFill>
                <a:latin typeface="Times New Roman"/>
              </a:rPr>
              <a:t>DES PRINCI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9960" y="2235240"/>
            <a:ext cx="7797600" cy="383544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3160" y="1031760"/>
            <a:ext cx="4585680" cy="5763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e Association Loi 19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3000" y="1692360"/>
            <a:ext cx="3008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types d'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08240" y="2755800"/>
            <a:ext cx="3022560" cy="3022560"/>
          </a:xfrm>
          <a:prstGeom prst="rect">
            <a:avLst/>
          </a:prstGeom>
          <a:noFill/>
          <a:ln w="2556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15120" y="2454120"/>
            <a:ext cx="1798560" cy="51552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ffa3"/>
                </a:solidFill>
                <a:latin typeface="Times New Roman"/>
              </a:rPr>
              <a:t>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72320" y="3444840"/>
            <a:ext cx="713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72680" y="443556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84600" y="2755800"/>
            <a:ext cx="3936960" cy="30225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17680" y="2454120"/>
            <a:ext cx="3078720" cy="515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ffa3"/>
                </a:solidFill>
                <a:latin typeface="Times New Roman"/>
              </a:rPr>
              <a:t>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10600" y="3368520"/>
            <a:ext cx="3654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Comité de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93640" y="4435560"/>
            <a:ext cx="3051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Comité 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42480" y="104760"/>
            <a:ext cx="23972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760" y="5853240"/>
            <a:ext cx="131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D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92840" y="1473120"/>
            <a:ext cx="2006640" cy="4292640"/>
          </a:xfrm>
          <a:prstGeom prst="rect">
            <a:avLst/>
          </a:prstGeom>
          <a:noFill/>
          <a:ln w="5076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35240" y="1397160"/>
            <a:ext cx="1778040" cy="4444920"/>
          </a:xfrm>
          <a:prstGeom prst="rect">
            <a:avLst/>
          </a:prstGeom>
          <a:noFill/>
          <a:ln w="5076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52600" y="930240"/>
            <a:ext cx="15256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60f9"/>
                </a:solidFill>
                <a:latin typeface="Times New Roman"/>
              </a:rPr>
              <a:t>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NG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NG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F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NC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DIL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N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09720" y="2743200"/>
            <a:ext cx="325440" cy="3125880"/>
          </a:xfrm>
          <a:custGeom>
            <a:avLst/>
            <a:gdLst/>
            <a:ahLst/>
            <a:rect l="l" t="t" r="r" b="b"/>
            <a:pathLst>
              <a:path w="205" h="1969">
                <a:moveTo>
                  <a:pt x="152" y="0"/>
                </a:moveTo>
                <a:lnTo>
                  <a:pt x="169" y="29"/>
                </a:lnTo>
                <a:lnTo>
                  <a:pt x="152" y="21"/>
                </a:lnTo>
                <a:lnTo>
                  <a:pt x="134" y="29"/>
                </a:lnTo>
                <a:lnTo>
                  <a:pt x="117" y="36"/>
                </a:lnTo>
                <a:lnTo>
                  <a:pt x="99" y="42"/>
                </a:lnTo>
                <a:lnTo>
                  <a:pt x="82" y="72"/>
                </a:lnTo>
                <a:lnTo>
                  <a:pt x="64" y="100"/>
                </a:lnTo>
                <a:lnTo>
                  <a:pt x="58" y="123"/>
                </a:lnTo>
                <a:lnTo>
                  <a:pt x="52" y="144"/>
                </a:lnTo>
                <a:lnTo>
                  <a:pt x="52" y="165"/>
                </a:lnTo>
                <a:lnTo>
                  <a:pt x="47" y="187"/>
                </a:lnTo>
                <a:lnTo>
                  <a:pt x="47" y="208"/>
                </a:lnTo>
                <a:lnTo>
                  <a:pt x="47" y="230"/>
                </a:lnTo>
                <a:lnTo>
                  <a:pt x="47" y="259"/>
                </a:lnTo>
                <a:lnTo>
                  <a:pt x="47" y="281"/>
                </a:lnTo>
                <a:lnTo>
                  <a:pt x="47" y="302"/>
                </a:lnTo>
                <a:lnTo>
                  <a:pt x="47" y="331"/>
                </a:lnTo>
                <a:lnTo>
                  <a:pt x="52" y="360"/>
                </a:lnTo>
                <a:lnTo>
                  <a:pt x="52" y="389"/>
                </a:lnTo>
                <a:lnTo>
                  <a:pt x="52" y="439"/>
                </a:lnTo>
                <a:lnTo>
                  <a:pt x="58" y="468"/>
                </a:lnTo>
                <a:lnTo>
                  <a:pt x="58" y="497"/>
                </a:lnTo>
                <a:lnTo>
                  <a:pt x="58" y="526"/>
                </a:lnTo>
                <a:lnTo>
                  <a:pt x="58" y="555"/>
                </a:lnTo>
                <a:lnTo>
                  <a:pt x="58" y="583"/>
                </a:lnTo>
                <a:lnTo>
                  <a:pt x="58" y="613"/>
                </a:lnTo>
                <a:lnTo>
                  <a:pt x="58" y="641"/>
                </a:lnTo>
                <a:lnTo>
                  <a:pt x="58" y="670"/>
                </a:lnTo>
                <a:lnTo>
                  <a:pt x="52" y="692"/>
                </a:lnTo>
                <a:lnTo>
                  <a:pt x="52" y="713"/>
                </a:lnTo>
                <a:lnTo>
                  <a:pt x="52" y="735"/>
                </a:lnTo>
                <a:lnTo>
                  <a:pt x="52" y="756"/>
                </a:lnTo>
                <a:lnTo>
                  <a:pt x="47" y="779"/>
                </a:lnTo>
                <a:lnTo>
                  <a:pt x="35" y="800"/>
                </a:lnTo>
                <a:lnTo>
                  <a:pt x="17" y="814"/>
                </a:lnTo>
                <a:lnTo>
                  <a:pt x="0" y="814"/>
                </a:lnTo>
                <a:lnTo>
                  <a:pt x="12" y="836"/>
                </a:lnTo>
                <a:lnTo>
                  <a:pt x="23" y="858"/>
                </a:lnTo>
                <a:lnTo>
                  <a:pt x="29" y="886"/>
                </a:lnTo>
                <a:lnTo>
                  <a:pt x="35" y="915"/>
                </a:lnTo>
                <a:lnTo>
                  <a:pt x="35" y="943"/>
                </a:lnTo>
                <a:lnTo>
                  <a:pt x="35" y="966"/>
                </a:lnTo>
                <a:lnTo>
                  <a:pt x="35" y="994"/>
                </a:lnTo>
                <a:lnTo>
                  <a:pt x="35" y="1024"/>
                </a:lnTo>
                <a:lnTo>
                  <a:pt x="35" y="1045"/>
                </a:lnTo>
                <a:lnTo>
                  <a:pt x="35" y="1088"/>
                </a:lnTo>
                <a:lnTo>
                  <a:pt x="35" y="1109"/>
                </a:lnTo>
                <a:lnTo>
                  <a:pt x="35" y="1139"/>
                </a:lnTo>
                <a:lnTo>
                  <a:pt x="35" y="1167"/>
                </a:lnTo>
                <a:lnTo>
                  <a:pt x="35" y="1196"/>
                </a:lnTo>
                <a:lnTo>
                  <a:pt x="35" y="1225"/>
                </a:lnTo>
                <a:lnTo>
                  <a:pt x="35" y="1254"/>
                </a:lnTo>
                <a:lnTo>
                  <a:pt x="35" y="1282"/>
                </a:lnTo>
                <a:lnTo>
                  <a:pt x="35" y="1312"/>
                </a:lnTo>
                <a:lnTo>
                  <a:pt x="29" y="1333"/>
                </a:lnTo>
                <a:lnTo>
                  <a:pt x="29" y="1354"/>
                </a:lnTo>
                <a:lnTo>
                  <a:pt x="29" y="1384"/>
                </a:lnTo>
                <a:lnTo>
                  <a:pt x="29" y="1405"/>
                </a:lnTo>
                <a:lnTo>
                  <a:pt x="29" y="1427"/>
                </a:lnTo>
                <a:lnTo>
                  <a:pt x="29" y="1448"/>
                </a:lnTo>
                <a:lnTo>
                  <a:pt x="29" y="1499"/>
                </a:lnTo>
                <a:lnTo>
                  <a:pt x="35" y="1520"/>
                </a:lnTo>
                <a:lnTo>
                  <a:pt x="35" y="1550"/>
                </a:lnTo>
                <a:lnTo>
                  <a:pt x="35" y="1593"/>
                </a:lnTo>
                <a:lnTo>
                  <a:pt x="35" y="1614"/>
                </a:lnTo>
                <a:lnTo>
                  <a:pt x="35" y="1643"/>
                </a:lnTo>
                <a:lnTo>
                  <a:pt x="35" y="1701"/>
                </a:lnTo>
                <a:lnTo>
                  <a:pt x="35" y="1744"/>
                </a:lnTo>
                <a:lnTo>
                  <a:pt x="41" y="1787"/>
                </a:lnTo>
                <a:lnTo>
                  <a:pt x="41" y="1816"/>
                </a:lnTo>
                <a:lnTo>
                  <a:pt x="47" y="1838"/>
                </a:lnTo>
                <a:lnTo>
                  <a:pt x="58" y="1859"/>
                </a:lnTo>
                <a:lnTo>
                  <a:pt x="76" y="1881"/>
                </a:lnTo>
                <a:lnTo>
                  <a:pt x="93" y="1895"/>
                </a:lnTo>
                <a:lnTo>
                  <a:pt x="111" y="1910"/>
                </a:lnTo>
                <a:lnTo>
                  <a:pt x="134" y="1925"/>
                </a:lnTo>
                <a:lnTo>
                  <a:pt x="152" y="1938"/>
                </a:lnTo>
                <a:lnTo>
                  <a:pt x="169" y="1953"/>
                </a:lnTo>
                <a:lnTo>
                  <a:pt x="187" y="1961"/>
                </a:lnTo>
                <a:lnTo>
                  <a:pt x="204" y="1968"/>
                </a:lnTo>
                <a:lnTo>
                  <a:pt x="198" y="19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09720" y="1600200"/>
            <a:ext cx="325440" cy="992160"/>
          </a:xfrm>
          <a:custGeom>
            <a:avLst/>
            <a:gdLst/>
            <a:ahLst/>
            <a:rect l="l" t="t" r="r" b="b"/>
            <a:pathLst>
              <a:path w="205" h="625">
                <a:moveTo>
                  <a:pt x="152" y="0"/>
                </a:moveTo>
                <a:lnTo>
                  <a:pt x="169" y="9"/>
                </a:lnTo>
                <a:lnTo>
                  <a:pt x="152" y="7"/>
                </a:lnTo>
                <a:lnTo>
                  <a:pt x="134" y="9"/>
                </a:lnTo>
                <a:lnTo>
                  <a:pt x="117" y="11"/>
                </a:lnTo>
                <a:lnTo>
                  <a:pt x="99" y="14"/>
                </a:lnTo>
                <a:lnTo>
                  <a:pt x="82" y="23"/>
                </a:lnTo>
                <a:lnTo>
                  <a:pt x="64" y="32"/>
                </a:lnTo>
                <a:lnTo>
                  <a:pt x="58" y="39"/>
                </a:lnTo>
                <a:lnTo>
                  <a:pt x="52" y="46"/>
                </a:lnTo>
                <a:lnTo>
                  <a:pt x="52" y="53"/>
                </a:lnTo>
                <a:lnTo>
                  <a:pt x="47" y="59"/>
                </a:lnTo>
                <a:lnTo>
                  <a:pt x="47" y="66"/>
                </a:lnTo>
                <a:lnTo>
                  <a:pt x="47" y="73"/>
                </a:lnTo>
                <a:lnTo>
                  <a:pt x="47" y="82"/>
                </a:lnTo>
                <a:lnTo>
                  <a:pt x="47" y="89"/>
                </a:lnTo>
                <a:lnTo>
                  <a:pt x="47" y="96"/>
                </a:lnTo>
                <a:lnTo>
                  <a:pt x="47" y="105"/>
                </a:lnTo>
                <a:lnTo>
                  <a:pt x="52" y="114"/>
                </a:lnTo>
                <a:lnTo>
                  <a:pt x="52" y="123"/>
                </a:lnTo>
                <a:lnTo>
                  <a:pt x="52" y="139"/>
                </a:lnTo>
                <a:lnTo>
                  <a:pt x="58" y="149"/>
                </a:lnTo>
                <a:lnTo>
                  <a:pt x="58" y="158"/>
                </a:lnTo>
                <a:lnTo>
                  <a:pt x="58" y="167"/>
                </a:lnTo>
                <a:lnTo>
                  <a:pt x="58" y="176"/>
                </a:lnTo>
                <a:lnTo>
                  <a:pt x="58" y="185"/>
                </a:lnTo>
                <a:lnTo>
                  <a:pt x="58" y="194"/>
                </a:lnTo>
                <a:lnTo>
                  <a:pt x="58" y="203"/>
                </a:lnTo>
                <a:lnTo>
                  <a:pt x="58" y="213"/>
                </a:lnTo>
                <a:lnTo>
                  <a:pt x="52" y="219"/>
                </a:lnTo>
                <a:lnTo>
                  <a:pt x="52" y="226"/>
                </a:lnTo>
                <a:lnTo>
                  <a:pt x="52" y="233"/>
                </a:lnTo>
                <a:lnTo>
                  <a:pt x="52" y="240"/>
                </a:lnTo>
                <a:lnTo>
                  <a:pt x="47" y="247"/>
                </a:lnTo>
                <a:lnTo>
                  <a:pt x="35" y="254"/>
                </a:lnTo>
                <a:lnTo>
                  <a:pt x="17" y="258"/>
                </a:lnTo>
                <a:lnTo>
                  <a:pt x="0" y="258"/>
                </a:lnTo>
                <a:lnTo>
                  <a:pt x="12" y="265"/>
                </a:lnTo>
                <a:lnTo>
                  <a:pt x="23" y="272"/>
                </a:lnTo>
                <a:lnTo>
                  <a:pt x="29" y="281"/>
                </a:lnTo>
                <a:lnTo>
                  <a:pt x="35" y="290"/>
                </a:lnTo>
                <a:lnTo>
                  <a:pt x="35" y="299"/>
                </a:lnTo>
                <a:lnTo>
                  <a:pt x="35" y="306"/>
                </a:lnTo>
                <a:lnTo>
                  <a:pt x="35" y="315"/>
                </a:lnTo>
                <a:lnTo>
                  <a:pt x="35" y="325"/>
                </a:lnTo>
                <a:lnTo>
                  <a:pt x="35" y="331"/>
                </a:lnTo>
                <a:lnTo>
                  <a:pt x="35" y="345"/>
                </a:lnTo>
                <a:lnTo>
                  <a:pt x="35" y="352"/>
                </a:lnTo>
                <a:lnTo>
                  <a:pt x="35" y="361"/>
                </a:lnTo>
                <a:lnTo>
                  <a:pt x="35" y="370"/>
                </a:lnTo>
                <a:lnTo>
                  <a:pt x="35" y="379"/>
                </a:lnTo>
                <a:lnTo>
                  <a:pt x="35" y="389"/>
                </a:lnTo>
                <a:lnTo>
                  <a:pt x="35" y="398"/>
                </a:lnTo>
                <a:lnTo>
                  <a:pt x="35" y="407"/>
                </a:lnTo>
                <a:lnTo>
                  <a:pt x="35" y="416"/>
                </a:lnTo>
                <a:lnTo>
                  <a:pt x="29" y="423"/>
                </a:lnTo>
                <a:lnTo>
                  <a:pt x="29" y="430"/>
                </a:lnTo>
                <a:lnTo>
                  <a:pt x="29" y="439"/>
                </a:lnTo>
                <a:lnTo>
                  <a:pt x="29" y="446"/>
                </a:lnTo>
                <a:lnTo>
                  <a:pt x="29" y="453"/>
                </a:lnTo>
                <a:lnTo>
                  <a:pt x="29" y="459"/>
                </a:lnTo>
                <a:lnTo>
                  <a:pt x="29" y="475"/>
                </a:lnTo>
                <a:lnTo>
                  <a:pt x="35" y="482"/>
                </a:lnTo>
                <a:lnTo>
                  <a:pt x="35" y="491"/>
                </a:lnTo>
                <a:lnTo>
                  <a:pt x="35" y="505"/>
                </a:lnTo>
                <a:lnTo>
                  <a:pt x="35" y="512"/>
                </a:lnTo>
                <a:lnTo>
                  <a:pt x="35" y="521"/>
                </a:lnTo>
                <a:lnTo>
                  <a:pt x="35" y="539"/>
                </a:lnTo>
                <a:lnTo>
                  <a:pt x="35" y="553"/>
                </a:lnTo>
                <a:lnTo>
                  <a:pt x="41" y="567"/>
                </a:lnTo>
                <a:lnTo>
                  <a:pt x="41" y="576"/>
                </a:lnTo>
                <a:lnTo>
                  <a:pt x="47" y="583"/>
                </a:lnTo>
                <a:lnTo>
                  <a:pt x="58" y="590"/>
                </a:lnTo>
                <a:lnTo>
                  <a:pt x="76" y="597"/>
                </a:lnTo>
                <a:lnTo>
                  <a:pt x="93" y="601"/>
                </a:lnTo>
                <a:lnTo>
                  <a:pt x="111" y="606"/>
                </a:lnTo>
                <a:lnTo>
                  <a:pt x="134" y="610"/>
                </a:lnTo>
                <a:lnTo>
                  <a:pt x="152" y="615"/>
                </a:lnTo>
                <a:lnTo>
                  <a:pt x="169" y="619"/>
                </a:lnTo>
                <a:lnTo>
                  <a:pt x="187" y="622"/>
                </a:lnTo>
                <a:lnTo>
                  <a:pt x="204" y="624"/>
                </a:lnTo>
                <a:lnTo>
                  <a:pt x="198" y="6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600" y="1844640"/>
            <a:ext cx="182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d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200" y="3978360"/>
            <a:ext cx="1545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tul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94640" y="1006560"/>
            <a:ext cx="184104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60f9"/>
                </a:solidFill>
                <a:latin typeface="Times New Roman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NGDS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NGTV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e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ul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lus par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743200"/>
            <a:ext cx="306360" cy="3049560"/>
          </a:xfrm>
          <a:custGeom>
            <a:avLst/>
            <a:gdLst/>
            <a:ahLst/>
            <a:rect l="l" t="t" r="r" b="b"/>
            <a:pathLst>
              <a:path w="193" h="1921">
                <a:moveTo>
                  <a:pt x="142" y="0"/>
                </a:moveTo>
                <a:lnTo>
                  <a:pt x="159" y="28"/>
                </a:lnTo>
                <a:lnTo>
                  <a:pt x="142" y="20"/>
                </a:lnTo>
                <a:lnTo>
                  <a:pt x="126" y="28"/>
                </a:lnTo>
                <a:lnTo>
                  <a:pt x="109" y="35"/>
                </a:lnTo>
                <a:lnTo>
                  <a:pt x="93" y="41"/>
                </a:lnTo>
                <a:lnTo>
                  <a:pt x="76" y="70"/>
                </a:lnTo>
                <a:lnTo>
                  <a:pt x="60" y="98"/>
                </a:lnTo>
                <a:lnTo>
                  <a:pt x="55" y="120"/>
                </a:lnTo>
                <a:lnTo>
                  <a:pt x="49" y="140"/>
                </a:lnTo>
                <a:lnTo>
                  <a:pt x="49" y="161"/>
                </a:lnTo>
                <a:lnTo>
                  <a:pt x="44" y="182"/>
                </a:lnTo>
                <a:lnTo>
                  <a:pt x="44" y="203"/>
                </a:lnTo>
                <a:lnTo>
                  <a:pt x="44" y="224"/>
                </a:lnTo>
                <a:lnTo>
                  <a:pt x="44" y="253"/>
                </a:lnTo>
                <a:lnTo>
                  <a:pt x="44" y="274"/>
                </a:lnTo>
                <a:lnTo>
                  <a:pt x="44" y="295"/>
                </a:lnTo>
                <a:lnTo>
                  <a:pt x="44" y="323"/>
                </a:lnTo>
                <a:lnTo>
                  <a:pt x="49" y="351"/>
                </a:lnTo>
                <a:lnTo>
                  <a:pt x="49" y="380"/>
                </a:lnTo>
                <a:lnTo>
                  <a:pt x="49" y="428"/>
                </a:lnTo>
                <a:lnTo>
                  <a:pt x="55" y="457"/>
                </a:lnTo>
                <a:lnTo>
                  <a:pt x="55" y="485"/>
                </a:lnTo>
                <a:lnTo>
                  <a:pt x="55" y="513"/>
                </a:lnTo>
                <a:lnTo>
                  <a:pt x="55" y="541"/>
                </a:lnTo>
                <a:lnTo>
                  <a:pt x="55" y="569"/>
                </a:lnTo>
                <a:lnTo>
                  <a:pt x="55" y="598"/>
                </a:lnTo>
                <a:lnTo>
                  <a:pt x="55" y="625"/>
                </a:lnTo>
                <a:lnTo>
                  <a:pt x="55" y="654"/>
                </a:lnTo>
                <a:lnTo>
                  <a:pt x="49" y="675"/>
                </a:lnTo>
                <a:lnTo>
                  <a:pt x="49" y="696"/>
                </a:lnTo>
                <a:lnTo>
                  <a:pt x="49" y="717"/>
                </a:lnTo>
                <a:lnTo>
                  <a:pt x="49" y="738"/>
                </a:lnTo>
                <a:lnTo>
                  <a:pt x="44" y="760"/>
                </a:lnTo>
                <a:lnTo>
                  <a:pt x="32" y="780"/>
                </a:lnTo>
                <a:lnTo>
                  <a:pt x="16" y="794"/>
                </a:lnTo>
                <a:lnTo>
                  <a:pt x="0" y="794"/>
                </a:lnTo>
                <a:lnTo>
                  <a:pt x="10" y="816"/>
                </a:lnTo>
                <a:lnTo>
                  <a:pt x="21" y="837"/>
                </a:lnTo>
                <a:lnTo>
                  <a:pt x="27" y="864"/>
                </a:lnTo>
                <a:lnTo>
                  <a:pt x="32" y="893"/>
                </a:lnTo>
                <a:lnTo>
                  <a:pt x="32" y="920"/>
                </a:lnTo>
                <a:lnTo>
                  <a:pt x="32" y="942"/>
                </a:lnTo>
                <a:lnTo>
                  <a:pt x="32" y="970"/>
                </a:lnTo>
                <a:lnTo>
                  <a:pt x="32" y="999"/>
                </a:lnTo>
                <a:lnTo>
                  <a:pt x="32" y="1020"/>
                </a:lnTo>
                <a:lnTo>
                  <a:pt x="32" y="1061"/>
                </a:lnTo>
                <a:lnTo>
                  <a:pt x="32" y="1082"/>
                </a:lnTo>
                <a:lnTo>
                  <a:pt x="32" y="1111"/>
                </a:lnTo>
                <a:lnTo>
                  <a:pt x="32" y="1139"/>
                </a:lnTo>
                <a:lnTo>
                  <a:pt x="32" y="1167"/>
                </a:lnTo>
                <a:lnTo>
                  <a:pt x="32" y="1195"/>
                </a:lnTo>
                <a:lnTo>
                  <a:pt x="32" y="1223"/>
                </a:lnTo>
                <a:lnTo>
                  <a:pt x="32" y="1251"/>
                </a:lnTo>
                <a:lnTo>
                  <a:pt x="32" y="1280"/>
                </a:lnTo>
                <a:lnTo>
                  <a:pt x="27" y="1300"/>
                </a:lnTo>
                <a:lnTo>
                  <a:pt x="27" y="1321"/>
                </a:lnTo>
                <a:lnTo>
                  <a:pt x="27" y="1350"/>
                </a:lnTo>
                <a:lnTo>
                  <a:pt x="27" y="1371"/>
                </a:lnTo>
                <a:lnTo>
                  <a:pt x="27" y="1392"/>
                </a:lnTo>
                <a:lnTo>
                  <a:pt x="27" y="1413"/>
                </a:lnTo>
                <a:lnTo>
                  <a:pt x="27" y="1462"/>
                </a:lnTo>
                <a:lnTo>
                  <a:pt x="32" y="1483"/>
                </a:lnTo>
                <a:lnTo>
                  <a:pt x="32" y="1512"/>
                </a:lnTo>
                <a:lnTo>
                  <a:pt x="32" y="1554"/>
                </a:lnTo>
                <a:lnTo>
                  <a:pt x="32" y="1575"/>
                </a:lnTo>
                <a:lnTo>
                  <a:pt x="32" y="1603"/>
                </a:lnTo>
                <a:lnTo>
                  <a:pt x="32" y="1660"/>
                </a:lnTo>
                <a:lnTo>
                  <a:pt x="32" y="1701"/>
                </a:lnTo>
                <a:lnTo>
                  <a:pt x="38" y="1743"/>
                </a:lnTo>
                <a:lnTo>
                  <a:pt x="38" y="1772"/>
                </a:lnTo>
                <a:lnTo>
                  <a:pt x="44" y="1793"/>
                </a:lnTo>
                <a:lnTo>
                  <a:pt x="55" y="1814"/>
                </a:lnTo>
                <a:lnTo>
                  <a:pt x="70" y="1835"/>
                </a:lnTo>
                <a:lnTo>
                  <a:pt x="87" y="1849"/>
                </a:lnTo>
                <a:lnTo>
                  <a:pt x="104" y="1863"/>
                </a:lnTo>
                <a:lnTo>
                  <a:pt x="126" y="1878"/>
                </a:lnTo>
                <a:lnTo>
                  <a:pt x="142" y="1891"/>
                </a:lnTo>
                <a:lnTo>
                  <a:pt x="159" y="1905"/>
                </a:lnTo>
                <a:lnTo>
                  <a:pt x="175" y="1913"/>
                </a:lnTo>
                <a:lnTo>
                  <a:pt x="192" y="1920"/>
                </a:lnTo>
                <a:lnTo>
                  <a:pt x="186" y="189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4400" y="4191120"/>
            <a:ext cx="604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09560" y="1662120"/>
            <a:ext cx="10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t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3640" y="1676520"/>
            <a:ext cx="325440" cy="992160"/>
          </a:xfrm>
          <a:custGeom>
            <a:avLst/>
            <a:gdLst/>
            <a:ahLst/>
            <a:rect l="l" t="t" r="r" b="b"/>
            <a:pathLst>
              <a:path w="205" h="625">
                <a:moveTo>
                  <a:pt x="152" y="0"/>
                </a:moveTo>
                <a:lnTo>
                  <a:pt x="169" y="9"/>
                </a:lnTo>
                <a:lnTo>
                  <a:pt x="152" y="7"/>
                </a:lnTo>
                <a:lnTo>
                  <a:pt x="134" y="9"/>
                </a:lnTo>
                <a:lnTo>
                  <a:pt x="117" y="11"/>
                </a:lnTo>
                <a:lnTo>
                  <a:pt x="99" y="14"/>
                </a:lnTo>
                <a:lnTo>
                  <a:pt x="82" y="23"/>
                </a:lnTo>
                <a:lnTo>
                  <a:pt x="64" y="32"/>
                </a:lnTo>
                <a:lnTo>
                  <a:pt x="58" y="39"/>
                </a:lnTo>
                <a:lnTo>
                  <a:pt x="52" y="46"/>
                </a:lnTo>
                <a:lnTo>
                  <a:pt x="52" y="53"/>
                </a:lnTo>
                <a:lnTo>
                  <a:pt x="47" y="59"/>
                </a:lnTo>
                <a:lnTo>
                  <a:pt x="47" y="66"/>
                </a:lnTo>
                <a:lnTo>
                  <a:pt x="47" y="73"/>
                </a:lnTo>
                <a:lnTo>
                  <a:pt x="47" y="82"/>
                </a:lnTo>
                <a:lnTo>
                  <a:pt x="47" y="89"/>
                </a:lnTo>
                <a:lnTo>
                  <a:pt x="47" y="96"/>
                </a:lnTo>
                <a:lnTo>
                  <a:pt x="47" y="105"/>
                </a:lnTo>
                <a:lnTo>
                  <a:pt x="52" y="114"/>
                </a:lnTo>
                <a:lnTo>
                  <a:pt x="52" y="123"/>
                </a:lnTo>
                <a:lnTo>
                  <a:pt x="52" y="139"/>
                </a:lnTo>
                <a:lnTo>
                  <a:pt x="58" y="149"/>
                </a:lnTo>
                <a:lnTo>
                  <a:pt x="58" y="158"/>
                </a:lnTo>
                <a:lnTo>
                  <a:pt x="58" y="167"/>
                </a:lnTo>
                <a:lnTo>
                  <a:pt x="58" y="176"/>
                </a:lnTo>
                <a:lnTo>
                  <a:pt x="58" y="185"/>
                </a:lnTo>
                <a:lnTo>
                  <a:pt x="58" y="194"/>
                </a:lnTo>
                <a:lnTo>
                  <a:pt x="58" y="203"/>
                </a:lnTo>
                <a:lnTo>
                  <a:pt x="58" y="213"/>
                </a:lnTo>
                <a:lnTo>
                  <a:pt x="52" y="219"/>
                </a:lnTo>
                <a:lnTo>
                  <a:pt x="52" y="226"/>
                </a:lnTo>
                <a:lnTo>
                  <a:pt x="52" y="233"/>
                </a:lnTo>
                <a:lnTo>
                  <a:pt x="52" y="240"/>
                </a:lnTo>
                <a:lnTo>
                  <a:pt x="47" y="247"/>
                </a:lnTo>
                <a:lnTo>
                  <a:pt x="35" y="254"/>
                </a:lnTo>
                <a:lnTo>
                  <a:pt x="17" y="258"/>
                </a:lnTo>
                <a:lnTo>
                  <a:pt x="0" y="258"/>
                </a:lnTo>
                <a:lnTo>
                  <a:pt x="12" y="265"/>
                </a:lnTo>
                <a:lnTo>
                  <a:pt x="23" y="272"/>
                </a:lnTo>
                <a:lnTo>
                  <a:pt x="29" y="281"/>
                </a:lnTo>
                <a:lnTo>
                  <a:pt x="35" y="290"/>
                </a:lnTo>
                <a:lnTo>
                  <a:pt x="35" y="299"/>
                </a:lnTo>
                <a:lnTo>
                  <a:pt x="35" y="306"/>
                </a:lnTo>
                <a:lnTo>
                  <a:pt x="35" y="315"/>
                </a:lnTo>
                <a:lnTo>
                  <a:pt x="35" y="325"/>
                </a:lnTo>
                <a:lnTo>
                  <a:pt x="35" y="331"/>
                </a:lnTo>
                <a:lnTo>
                  <a:pt x="35" y="345"/>
                </a:lnTo>
                <a:lnTo>
                  <a:pt x="35" y="352"/>
                </a:lnTo>
                <a:lnTo>
                  <a:pt x="35" y="361"/>
                </a:lnTo>
                <a:lnTo>
                  <a:pt x="35" y="370"/>
                </a:lnTo>
                <a:lnTo>
                  <a:pt x="35" y="379"/>
                </a:lnTo>
                <a:lnTo>
                  <a:pt x="35" y="389"/>
                </a:lnTo>
                <a:lnTo>
                  <a:pt x="35" y="398"/>
                </a:lnTo>
                <a:lnTo>
                  <a:pt x="35" y="407"/>
                </a:lnTo>
                <a:lnTo>
                  <a:pt x="35" y="416"/>
                </a:lnTo>
                <a:lnTo>
                  <a:pt x="29" y="423"/>
                </a:lnTo>
                <a:lnTo>
                  <a:pt x="29" y="430"/>
                </a:lnTo>
                <a:lnTo>
                  <a:pt x="29" y="439"/>
                </a:lnTo>
                <a:lnTo>
                  <a:pt x="29" y="446"/>
                </a:lnTo>
                <a:lnTo>
                  <a:pt x="29" y="453"/>
                </a:lnTo>
                <a:lnTo>
                  <a:pt x="29" y="459"/>
                </a:lnTo>
                <a:lnTo>
                  <a:pt x="29" y="475"/>
                </a:lnTo>
                <a:lnTo>
                  <a:pt x="35" y="482"/>
                </a:lnTo>
                <a:lnTo>
                  <a:pt x="35" y="491"/>
                </a:lnTo>
                <a:lnTo>
                  <a:pt x="35" y="505"/>
                </a:lnTo>
                <a:lnTo>
                  <a:pt x="35" y="512"/>
                </a:lnTo>
                <a:lnTo>
                  <a:pt x="35" y="521"/>
                </a:lnTo>
                <a:lnTo>
                  <a:pt x="35" y="539"/>
                </a:lnTo>
                <a:lnTo>
                  <a:pt x="35" y="553"/>
                </a:lnTo>
                <a:lnTo>
                  <a:pt x="41" y="567"/>
                </a:lnTo>
                <a:lnTo>
                  <a:pt x="41" y="576"/>
                </a:lnTo>
                <a:lnTo>
                  <a:pt x="47" y="583"/>
                </a:lnTo>
                <a:lnTo>
                  <a:pt x="58" y="590"/>
                </a:lnTo>
                <a:lnTo>
                  <a:pt x="76" y="597"/>
                </a:lnTo>
                <a:lnTo>
                  <a:pt x="93" y="601"/>
                </a:lnTo>
                <a:lnTo>
                  <a:pt x="111" y="606"/>
                </a:lnTo>
                <a:lnTo>
                  <a:pt x="134" y="610"/>
                </a:lnTo>
                <a:lnTo>
                  <a:pt x="152" y="615"/>
                </a:lnTo>
                <a:lnTo>
                  <a:pt x="169" y="619"/>
                </a:lnTo>
                <a:lnTo>
                  <a:pt x="187" y="622"/>
                </a:lnTo>
                <a:lnTo>
                  <a:pt x="204" y="624"/>
                </a:lnTo>
                <a:lnTo>
                  <a:pt x="198" y="6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9280" y="152280"/>
            <a:ext cx="2190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Times New Roman"/>
              </a:rPr>
              <a:t>G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ffa3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06440" y="3683160"/>
            <a:ext cx="8483400" cy="241272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25320" y="3216240"/>
            <a:ext cx="3753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ité de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3809880"/>
            <a:ext cx="17319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v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G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GTV (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IL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4360" y="3809880"/>
            <a:ext cx="1591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C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1240" y="3795840"/>
            <a:ext cx="1776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ientif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f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82960" y="711360"/>
            <a:ext cx="3377880" cy="139680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45520" y="244440"/>
            <a:ext cx="3051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ité 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11840" y="824040"/>
            <a:ext cx="1194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G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G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G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41920" y="473040"/>
            <a:ext cx="346068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épa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s trav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amine les doss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nd u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i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rdre du jour C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rot="16200000">
            <a:off x="3395880" y="2558880"/>
            <a:ext cx="596880" cy="368280"/>
          </a:xfrm>
          <a:prstGeom prst="rightArrow">
            <a:avLst>
              <a:gd name="adj1" fmla="val 50000"/>
              <a:gd name="adj2" fmla="val 8108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3:29:36Z</dcterms:created>
  <dc:creator>GUERIN DIDIER</dc:creator>
  <dc:description/>
  <dc:language>en-US</dc:language>
  <cp:lastModifiedBy>Noura</cp:lastModifiedBy>
  <cp:lastPrinted>2000-07-07T14:49:49Z</cp:lastPrinted>
  <dcterms:modified xsi:type="dcterms:W3CDTF">2000-11-20T09:37:59Z</dcterms:modified>
  <cp:revision>58</cp:revision>
  <dc:subject/>
  <dc:title>Aucun titre de diapositive</dc:title>
</cp:coreProperties>
</file>